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A93-8050-416D-AC84-6425F64FC94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F78-0692-47B9-92D1-9B614A9BB1AB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5B4E-1A51-4C4A-862E-0555ABD4254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B61-E970-4692-A505-0F60B6AE7DFB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8C85-C06A-475F-BD65-947CD68BBC2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555-71E1-4E8D-85D3-8EF55E973EE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그림 1" descr="윤리와사상_ppt_진단평가.png"/>
          <p:cNvPicPr/>
          <p:nvPr/>
        </p:nvPicPr>
        <p:blipFill>
          <a:blip r:embed="rId3"/>
          <a:stretch/>
        </p:blipFill>
        <p:spPr>
          <a:xfrm>
            <a:off x="0" y="0"/>
            <a:ext cx="1714680" cy="8254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2" descr="윤리와사상_ppt_학습정리.png"/>
          <p:cNvPicPr/>
          <p:nvPr/>
        </p:nvPicPr>
        <p:blipFill>
          <a:blip r:embed="rId3"/>
          <a:stretch/>
        </p:blipFill>
        <p:spPr>
          <a:xfrm>
            <a:off x="71280" y="-71280"/>
            <a:ext cx="164340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  <p:sp>
        <p:nvSpPr>
          <p:cNvPr id="296" name="모서리가 둥근 직사각형 2"/>
          <p:cNvSpPr/>
          <p:nvPr/>
        </p:nvSpPr>
        <p:spPr>
          <a:xfrm>
            <a:off x="5815080" y="919080"/>
            <a:ext cx="1008000" cy="28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심화 학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모서리가 둥근 직사각형 3"/>
          <p:cNvSpPr/>
          <p:nvPr/>
        </p:nvSpPr>
        <p:spPr>
          <a:xfrm>
            <a:off x="6905520" y="923760"/>
            <a:ext cx="1008000" cy="281160"/>
          </a:xfrm>
          <a:prstGeom prst="roundRect">
            <a:avLst>
              <a:gd name="adj" fmla="val 50000"/>
            </a:avLst>
          </a:prstGeom>
          <a:solidFill>
            <a:srgbClr val="31859c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토의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토론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모서리가 둥근 직사각형 4"/>
          <p:cNvSpPr/>
          <p:nvPr/>
        </p:nvSpPr>
        <p:spPr>
          <a:xfrm>
            <a:off x="8001000" y="928800"/>
            <a:ext cx="1008000" cy="28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창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인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직사각형 3" descr=""/>
          <p:cNvPicPr/>
          <p:nvPr/>
        </p:nvPicPr>
        <p:blipFill>
          <a:blip r:embed="rId1"/>
          <a:stretch/>
        </p:blipFill>
        <p:spPr>
          <a:xfrm>
            <a:off x="2279520" y="2962440"/>
            <a:ext cx="6199200" cy="7617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1"/>
          <p:cNvSpPr/>
          <p:nvPr/>
        </p:nvSpPr>
        <p:spPr>
          <a:xfrm>
            <a:off x="2262240" y="3651120"/>
            <a:ext cx="6453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9. 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가 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· 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교 사상의 특징 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한국 전통 사상과의 융합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14440" y="919080"/>
            <a:ext cx="8388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환경 오염과 생태계 파괴 문제 해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환경 문제 발생 원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분법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二分法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적 사고：인간과 자연이 서로 다르다고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생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간 중심적 자연관：인간을 자연보다 우월하다고 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자연관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유기적 자연관：인간과 자연은 분리될 수 없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근본적으로 환경 문제를 해결하기 위한 사고의 전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가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직사각형 7"/>
          <p:cNvSpPr/>
          <p:nvPr/>
        </p:nvSpPr>
        <p:spPr>
          <a:xfrm>
            <a:off x="1000080" y="1214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글을 읽고 물음에 답해 보자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2727360" y="220680"/>
            <a:ext cx="44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 사상은 현대 한국 사회에서 어떤 기능을 할 수 있을까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타원 4"/>
          <p:cNvSpPr/>
          <p:nvPr/>
        </p:nvSpPr>
        <p:spPr>
          <a:xfrm>
            <a:off x="857160" y="1357200"/>
            <a:ext cx="142920" cy="142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그림 5" descr="2_9_1.png"/>
          <p:cNvPicPr/>
          <p:nvPr/>
        </p:nvPicPr>
        <p:blipFill>
          <a:blip r:embed="rId1"/>
          <a:stretch/>
        </p:blipFill>
        <p:spPr>
          <a:xfrm>
            <a:off x="1071720" y="1643040"/>
            <a:ext cx="73580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직사각형 6"/>
          <p:cNvSpPr/>
          <p:nvPr/>
        </p:nvSpPr>
        <p:spPr>
          <a:xfrm>
            <a:off x="571680" y="1260360"/>
            <a:ext cx="8358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ko-KR" sz="27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료 ❶을 읽고</a:t>
            </a:r>
            <a:r>
              <a:rPr b="1" lang="en-US" sz="27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‘</a:t>
            </a:r>
            <a:r>
              <a:rPr b="1" lang="ko-KR" sz="27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좋은 대학에 가면 성공이 보장된다</a:t>
            </a:r>
            <a:r>
              <a:rPr b="1" lang="en-US" sz="27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’</a:t>
            </a:r>
            <a:r>
              <a:rPr b="1" lang="ko-KR" sz="27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라는 주장에 대해 자신의 입장을 정리해 보자</a:t>
            </a:r>
            <a:r>
              <a:rPr b="1" lang="en-US" sz="27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모서리가 둥근 직사각형 21"/>
          <p:cNvSpPr/>
          <p:nvPr/>
        </p:nvSpPr>
        <p:spPr>
          <a:xfrm>
            <a:off x="642960" y="2286000"/>
            <a:ext cx="8143920" cy="4143240"/>
          </a:xfrm>
          <a:prstGeom prst="roundRect">
            <a:avLst>
              <a:gd name="adj" fmla="val 988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직사각형 8"/>
          <p:cNvSpPr/>
          <p:nvPr/>
        </p:nvSpPr>
        <p:spPr>
          <a:xfrm>
            <a:off x="574560" y="121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C:\Documents and Settings\Administrator\My Documents\네이트온 받은 파일\마우스.png"/>
          <p:cNvPicPr/>
          <p:nvPr/>
        </p:nvPicPr>
        <p:blipFill>
          <a:blip r:embed="rId1"/>
          <a:stretch/>
        </p:blipFill>
        <p:spPr>
          <a:xfrm>
            <a:off x="3929040" y="31431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8" name="직사각형 6"/>
          <p:cNvSpPr/>
          <p:nvPr/>
        </p:nvSpPr>
        <p:spPr>
          <a:xfrm>
            <a:off x="785880" y="2428920"/>
            <a:ext cx="7786800" cy="2945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갑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: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좋은 대학이 반드시 인생의 성공을 보장하는 것은 아니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: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자료 ❶은 예외적인 사례이고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대부분의 경우 좋은 대학에 가면 성공하는 것 같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병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: ‘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공’이라는 것이 반드시 물질적 풍요나 명예만 의미하는 것은 아니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만일 물질적 풍요나 명예와 같은 결과를 위해 대학을 간다면 대학 생활은 행복하지 않을 것이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727360" y="220680"/>
            <a:ext cx="44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 사상은 현대 한국 사회에서 어떤 기능을 할 수 있을까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6"/>
          <p:cNvSpPr/>
          <p:nvPr/>
        </p:nvSpPr>
        <p:spPr>
          <a:xfrm>
            <a:off x="428760" y="13366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가 자료 ❷의 관점에서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A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씨에게 조언을 해 준다면 어떤 말을 해 줄 수 있을지 생각해 보자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21"/>
          <p:cNvSpPr/>
          <p:nvPr/>
        </p:nvSpPr>
        <p:spPr>
          <a:xfrm>
            <a:off x="714240" y="2357280"/>
            <a:ext cx="7929720" cy="3929400"/>
          </a:xfrm>
          <a:prstGeom prst="roundRect">
            <a:avLst>
              <a:gd name="adj" fmla="val 988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사각형 8"/>
          <p:cNvSpPr/>
          <p:nvPr/>
        </p:nvSpPr>
        <p:spPr>
          <a:xfrm>
            <a:off x="519120" y="1285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C:\Documents and Settings\Administrator\My Documents\네이트온 받은 파일\마우스.png"/>
          <p:cNvPicPr/>
          <p:nvPr/>
        </p:nvPicPr>
        <p:blipFill>
          <a:blip r:embed="rId1"/>
          <a:stretch/>
        </p:blipFill>
        <p:spPr>
          <a:xfrm>
            <a:off x="3786120" y="3006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14" name="직사각형 6"/>
          <p:cNvSpPr/>
          <p:nvPr/>
        </p:nvSpPr>
        <p:spPr>
          <a:xfrm>
            <a:off x="785880" y="2514600"/>
            <a:ext cx="7786800" cy="1519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대학은 자신이 인생에서 진정으로 얻고자 하는 것이 무엇인지 배우기 위해 진학하는 곳입니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자신이 왜 대학에 가고 싶어 하는지 다시 한 번 가만히 생각해 보십시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2727360" y="220680"/>
            <a:ext cx="44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 사상은 현대 한국 사회에서 어떤 기능을 할 수 있을까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571680" y="2571840"/>
            <a:ext cx="8350200" cy="2500200"/>
          </a:xfrm>
          <a:prstGeom prst="rect">
            <a:avLst/>
          </a:prstGeom>
          <a:ln w="0">
            <a:noFill/>
          </a:ln>
        </p:spPr>
      </p:pic>
      <p:sp>
        <p:nvSpPr>
          <p:cNvPr id="417" name="직사각형 6"/>
          <p:cNvSpPr/>
          <p:nvPr/>
        </p:nvSpPr>
        <p:spPr>
          <a:xfrm>
            <a:off x="428760" y="13366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가 자료 ❷의 관점에서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A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씨에게 조언을 해 준다면 어떤 말을 해 줄 수 있을지 생각해 보자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8"/>
          <p:cNvSpPr/>
          <p:nvPr/>
        </p:nvSpPr>
        <p:spPr>
          <a:xfrm>
            <a:off x="519120" y="1285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2727360" y="220680"/>
            <a:ext cx="44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 사상은 현대 한국 사회에서 어떤 기능을 할 수 있을까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C:\Documents and Settings\Administrator\My Documents\네이트온 받은 파일\마우스.png"/>
          <p:cNvPicPr/>
          <p:nvPr/>
        </p:nvPicPr>
        <p:blipFill>
          <a:blip r:embed="rId2"/>
          <a:stretch/>
        </p:blipFill>
        <p:spPr>
          <a:xfrm>
            <a:off x="5072040" y="4071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Administrator\My Documents\네이트온 받은 파일\마우스.png"/>
          <p:cNvPicPr/>
          <p:nvPr/>
        </p:nvPicPr>
        <p:blipFill>
          <a:blip r:embed="rId3"/>
          <a:stretch/>
        </p:blipFill>
        <p:spPr>
          <a:xfrm>
            <a:off x="5072040" y="2857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2" name="직사각형 6"/>
          <p:cNvSpPr/>
          <p:nvPr/>
        </p:nvSpPr>
        <p:spPr>
          <a:xfrm>
            <a:off x="2286000" y="2774880"/>
            <a:ext cx="635796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좋은 대학에 가면 개인의 이력에 도움이 된다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더 좋은 환경 속에서 공부할 수 있다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출세한 선배들의 도움을 받을 수 있다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직사각형 6"/>
          <p:cNvSpPr/>
          <p:nvPr/>
        </p:nvSpPr>
        <p:spPr>
          <a:xfrm>
            <a:off x="2286000" y="3846600"/>
            <a:ext cx="635796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대학은 주로 학업 성적으로 가지만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공은 성적에 따라 주어지는 것이 아니다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‘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공’은 대학이나 직장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연봉과 같은 외적인 기준뿐 아니라 내적인 만족감에 따라 달라질 수 있다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좋은 대학에 가서 자만심에 빠져 노력을 게을리하면 오히려 실패할 확률도 높아진다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그룹 2" descr=""/>
          <p:cNvPicPr/>
          <p:nvPr/>
        </p:nvPicPr>
        <p:blipFill>
          <a:blip r:embed="rId1"/>
          <a:stretch/>
        </p:blipFill>
        <p:spPr>
          <a:xfrm>
            <a:off x="426960" y="96372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425" name="그룹 2" descr=""/>
          <p:cNvPicPr/>
          <p:nvPr/>
        </p:nvPicPr>
        <p:blipFill>
          <a:blip r:embed="rId2"/>
          <a:stretch/>
        </p:blipFill>
        <p:spPr>
          <a:xfrm>
            <a:off x="426960" y="21034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426" name="그룹 2" descr=""/>
          <p:cNvPicPr/>
          <p:nvPr/>
        </p:nvPicPr>
        <p:blipFill>
          <a:blip r:embed="rId3"/>
          <a:stretch/>
        </p:blipFill>
        <p:spPr>
          <a:xfrm>
            <a:off x="426960" y="3255840"/>
            <a:ext cx="451080" cy="420840"/>
          </a:xfrm>
          <a:prstGeom prst="rect">
            <a:avLst/>
          </a:prstGeom>
          <a:ln w="0">
            <a:noFill/>
          </a:ln>
        </p:spPr>
      </p:pic>
      <p:pic>
        <p:nvPicPr>
          <p:cNvPr id="427" name="그룹 2" descr=""/>
          <p:cNvPicPr/>
          <p:nvPr/>
        </p:nvPicPr>
        <p:blipFill>
          <a:blip r:embed="rId4"/>
          <a:stretch/>
        </p:blipFill>
        <p:spPr>
          <a:xfrm>
            <a:off x="438120" y="4449600"/>
            <a:ext cx="452520" cy="4208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5"/>
          <p:cNvSpPr/>
          <p:nvPr/>
        </p:nvSpPr>
        <p:spPr>
          <a:xfrm>
            <a:off x="928800" y="928800"/>
            <a:ext cx="73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국의 도교는 중국에서 유입된 순수 외래 사상이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928800" y="2000160"/>
            <a:ext cx="73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고려 시대 도교는 국가적으로 재초 행사를 주관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928800" y="3143160"/>
            <a:ext cx="73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는 조선 후기 동학과 증산교 형성에 영향을 주었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타원 28"/>
          <p:cNvSpPr/>
          <p:nvPr/>
        </p:nvSpPr>
        <p:spPr>
          <a:xfrm>
            <a:off x="6953400" y="239220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타원 29"/>
          <p:cNvSpPr/>
          <p:nvPr/>
        </p:nvSpPr>
        <p:spPr>
          <a:xfrm>
            <a:off x="7524720" y="1362240"/>
            <a:ext cx="588960" cy="587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타원 30"/>
          <p:cNvSpPr/>
          <p:nvPr/>
        </p:nvSpPr>
        <p:spPr>
          <a:xfrm>
            <a:off x="6953400" y="3556080"/>
            <a:ext cx="588960" cy="5889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1"/>
          <p:cNvSpPr/>
          <p:nvPr/>
        </p:nvSpPr>
        <p:spPr>
          <a:xfrm>
            <a:off x="928800" y="4314960"/>
            <a:ext cx="73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고려와 조선의 도읍 선정과 민간에서 집터를 정할 때는 성황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조왕 등의 민간 신앙에 따랐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타원 32"/>
          <p:cNvSpPr/>
          <p:nvPr/>
        </p:nvSpPr>
        <p:spPr>
          <a:xfrm>
            <a:off x="7524720" y="5199120"/>
            <a:ext cx="588960" cy="587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2" descr="C:\Documents and Settings\Administrator\My Documents\네이트온 받은 파일\클릭2.png"/>
          <p:cNvPicPr/>
          <p:nvPr/>
        </p:nvPicPr>
        <p:blipFill>
          <a:blip r:embed="rId5"/>
          <a:stretch/>
        </p:blipFill>
        <p:spPr>
          <a:xfrm>
            <a:off x="5843520" y="1514520"/>
            <a:ext cx="943200" cy="338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C:\Documents and Settings\Administrator\My Documents\네이트온 받은 파일\클릭2.png"/>
          <p:cNvPicPr/>
          <p:nvPr/>
        </p:nvPicPr>
        <p:blipFill>
          <a:blip r:embed="rId6"/>
          <a:stretch/>
        </p:blipFill>
        <p:spPr>
          <a:xfrm>
            <a:off x="5843520" y="2552760"/>
            <a:ext cx="943200" cy="338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C:\Documents and Settings\Administrator\My Documents\네이트온 받은 파일\클릭2.png"/>
          <p:cNvPicPr/>
          <p:nvPr/>
        </p:nvPicPr>
        <p:blipFill>
          <a:blip r:embed="rId7"/>
          <a:stretch/>
        </p:blipFill>
        <p:spPr>
          <a:xfrm>
            <a:off x="5843520" y="3695760"/>
            <a:ext cx="943200" cy="338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Documents and Settings\Administrator\My Documents\네이트온 받은 파일\클릭2.png"/>
          <p:cNvPicPr/>
          <p:nvPr/>
        </p:nvPicPr>
        <p:blipFill>
          <a:blip r:embed="rId8"/>
          <a:stretch/>
        </p:blipFill>
        <p:spPr>
          <a:xfrm>
            <a:off x="5843520" y="5286240"/>
            <a:ext cx="94320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그룹 2" descr=""/>
          <p:cNvPicPr/>
          <p:nvPr/>
        </p:nvPicPr>
        <p:blipFill>
          <a:blip r:embed="rId1"/>
          <a:stretch/>
        </p:blipFill>
        <p:spPr>
          <a:xfrm>
            <a:off x="378000" y="1011240"/>
            <a:ext cx="450720" cy="415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762120" y="92880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, 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나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 각각 들어갈 책의 내용에 공통적으로 영향을 준 사상에 대한 설명으로 옳은 것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타원 14"/>
          <p:cNvSpPr/>
          <p:nvPr/>
        </p:nvSpPr>
        <p:spPr>
          <a:xfrm>
            <a:off x="685800" y="492912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직사각형 16"/>
          <p:cNvSpPr/>
          <p:nvPr/>
        </p:nvSpPr>
        <p:spPr>
          <a:xfrm>
            <a:off x="785880" y="2243160"/>
            <a:ext cx="8001000" cy="1800360"/>
          </a:xfrm>
          <a:prstGeom prst="rect">
            <a:avLst/>
          </a:prstGeom>
          <a:solidFill>
            <a:srgbClr val="d9d9d9"/>
          </a:solidFill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• 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가 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조선 중기에 허준이 선조의 명을 받아 편찬한 의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로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세계 기록 유산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Memory of the World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 등재되어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있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• 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나 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조선 중기에 정렴이 쓴 수련서로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신선이 되기 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 다양한 심신 수련 방법이 제시되어 있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직사각형 17"/>
          <p:cNvSpPr/>
          <p:nvPr/>
        </p:nvSpPr>
        <p:spPr>
          <a:xfrm>
            <a:off x="714240" y="4078440"/>
            <a:ext cx="81439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모든 사람을 똑같이 사랑할 것을 강조하였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삶의 공허함을 깨닫고 해탈할 것을 주장하였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③ ‘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연의 도’를 따르는 삶을 이상적으로 생각하였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④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호연지기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浩然之氣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를 지닌 대장부를 이상적 인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으로 보았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2" descr="C:\Documents and Settings\Administrator\My Documents\네이트온 받은 파일\클릭2.png"/>
          <p:cNvPicPr/>
          <p:nvPr/>
        </p:nvPicPr>
        <p:blipFill>
          <a:blip r:embed="rId2"/>
          <a:stretch/>
        </p:blipFill>
        <p:spPr>
          <a:xfrm>
            <a:off x="804960" y="1857240"/>
            <a:ext cx="94284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직사각형 3"/>
          <p:cNvSpPr/>
          <p:nvPr/>
        </p:nvSpPr>
        <p:spPr>
          <a:xfrm>
            <a:off x="1857240" y="2214720"/>
            <a:ext cx="56437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국 전통 사상 속에서 나타난 도교의 시대적 특성을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그림 2" descr=""/>
          <p:cNvPicPr/>
          <p:nvPr/>
        </p:nvPicPr>
        <p:blipFill>
          <a:blip r:embed="rId1"/>
          <a:stretch/>
        </p:blipFill>
        <p:spPr>
          <a:xfrm>
            <a:off x="1719360" y="3300480"/>
            <a:ext cx="150840" cy="142920"/>
          </a:xfrm>
          <a:prstGeom prst="rect">
            <a:avLst/>
          </a:prstGeom>
          <a:ln w="0">
            <a:noFill/>
          </a:ln>
        </p:spPr>
      </p:pic>
      <p:pic>
        <p:nvPicPr>
          <p:cNvPr id="385" name="그림 2" descr=""/>
          <p:cNvPicPr/>
          <p:nvPr/>
        </p:nvPicPr>
        <p:blipFill>
          <a:blip r:embed="rId2"/>
          <a:stretch/>
        </p:blipFill>
        <p:spPr>
          <a:xfrm>
            <a:off x="1709640" y="4186080"/>
            <a:ext cx="150840" cy="142920"/>
          </a:xfrm>
          <a:prstGeom prst="rect">
            <a:avLst/>
          </a:prstGeom>
          <a:ln w="0">
            <a:noFill/>
          </a:ln>
        </p:spPr>
      </p:pic>
      <p:pic>
        <p:nvPicPr>
          <p:cNvPr id="386" name="그림 2" descr=""/>
          <p:cNvPicPr/>
          <p:nvPr/>
        </p:nvPicPr>
        <p:blipFill>
          <a:blip r:embed="rId3"/>
          <a:stretch/>
        </p:blipFill>
        <p:spPr>
          <a:xfrm>
            <a:off x="1685880" y="2362320"/>
            <a:ext cx="150840" cy="142920"/>
          </a:xfrm>
          <a:prstGeom prst="rect">
            <a:avLst/>
          </a:prstGeom>
          <a:ln w="0">
            <a:noFill/>
          </a:ln>
        </p:spPr>
      </p:pic>
      <p:sp>
        <p:nvSpPr>
          <p:cNvPr id="387" name="직사각형 5"/>
          <p:cNvSpPr/>
          <p:nvPr/>
        </p:nvSpPr>
        <p:spPr>
          <a:xfrm>
            <a:off x="1857240" y="3133800"/>
            <a:ext cx="56437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가 우리 민속과 어떻게 융합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발전했는지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직사각형 6"/>
          <p:cNvSpPr/>
          <p:nvPr/>
        </p:nvSpPr>
        <p:spPr>
          <a:xfrm>
            <a:off x="1857240" y="4071960"/>
            <a:ext cx="56437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 사상이 현대적으로 어떠한 의미가 있는지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1"/>
          <p:cNvSpPr/>
          <p:nvPr/>
        </p:nvSpPr>
        <p:spPr>
          <a:xfrm>
            <a:off x="353880" y="966960"/>
            <a:ext cx="798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1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가</a:t>
            </a: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·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교와 한국 전통 사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504720" y="1500120"/>
            <a:ext cx="8388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국 전통 사상 속의 도교적 요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우리 고유의 신선 사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고대 고분 벽화：고구려 고분 벽화에 학을 탄 신선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약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11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그릇을 든 신선의 모습이 등장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단군 신화：단군이 나라를 다스리다 나중에 신선이 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화랑의 사선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四仙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최고의 화랑 네 명을 사선이라 부르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며 신선처럼 대우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국의 도교：우리 고유의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신선 사상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무속 신앙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과 중국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서 전래된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교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결합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20560" y="905040"/>
            <a:ext cx="8388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 사상의 시대별 특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삼국 시대：민간 신앙의 형태로 나타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고려 시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팔관회：불교 행사인 팔관회에 도교를 결합하여 제사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지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복원궁：고려의 대표적인 도교 사원 →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재초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齋醮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행사 주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여러 신에게 제사를 지내 재앙을 물리치고 복을 빔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04720" y="814320"/>
            <a:ext cx="838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조선 시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소격서：왕실과 국가의 안녕을 비는 재초 의례 주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고려시대에 비해 기능이 위축됨 → 임진왜란 이후 폐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민간 신앙：국가의 공식적인 행사는 없었으나 민간에  기복 신앙으로 유지 → 조선 후기에 도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비기와 같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예언 사상으로 등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신흥 종교 형성에 영향：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동학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증산교 형성에 영향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④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의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민간 신앙으로서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민중의 마음을 위로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국가의 안녕과 발전을 기원하여 민족을 사상적으로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집시키는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민족주의적 성격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나타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1"/>
          <p:cNvSpPr/>
          <p:nvPr/>
        </p:nvSpPr>
        <p:spPr>
          <a:xfrm>
            <a:off x="372960" y="923760"/>
            <a:ext cx="79851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2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가 </a:t>
            </a: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·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교와 전통 과학 </a:t>
            </a: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·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민속의 융합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504720" y="1484280"/>
            <a:ext cx="838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와 민속의 융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민간 신앙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：신선이 되기 위한 여러 가지 수련 방법 제시 →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불로장생설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등장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선약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仙藥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개발을 위한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연금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발달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우리나라 민간에서 장수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長壽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와 관련한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다양한 민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신앙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등장 → 성황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城隍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칠성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七星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조왕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竈王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04720" y="1000080"/>
            <a:ext cx="838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풍수지리 사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미：지형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地形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과 같은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자연 환경이 인간의 삶에 영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끼친다는 사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국가적 차원：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가의 도읍을 정할 때 풍수지리를 따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→ 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의 개경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선의 한양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•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민간 차원：집터를 정하거나 묘를 쓸 때 풍수리지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04720" y="966960"/>
            <a:ext cx="838836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와 전통 과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학의 발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무병장수를 위한 양생법에 관심 →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의학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발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동의보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東醫寶鑑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조선 중기에 허준이 선조의 명을 받아 편찬한 의서로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의학 체계로부터 영향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받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심신 수련 방법의 발달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신선이 되기 위한 다양한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심신 수련법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발달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“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용호비결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龍虎秘訣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정렴이 쓴 심신 수련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1"/>
          <p:cNvSpPr/>
          <p:nvPr/>
        </p:nvSpPr>
        <p:spPr>
          <a:xfrm>
            <a:off x="428760" y="895320"/>
            <a:ext cx="84852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3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가 </a:t>
            </a: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·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교 사상의 현대적 의의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504720" y="1419120"/>
            <a:ext cx="838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현대인들의 삶에 지침 제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정신적 자유 강조：상대적인 가치에 집착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하지 말고 정신적으로 자유로워질 것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진정한 행복 추구：무위자연의 삶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35:17Z</dcterms:created>
  <dc:creator>(주)미래엔 교육 개발 1실</dc:creator>
  <dc:description/>
  <dc:language>en-US</dc:language>
  <cp:lastModifiedBy>beginner</cp:lastModifiedBy>
  <dcterms:modified xsi:type="dcterms:W3CDTF">2013-12-13T08:59:52Z</dcterms:modified>
  <cp:revision>850</cp:revision>
  <dc:subject/>
  <dc:title>PowerPoint 프레젠테이션</dc:title>
</cp:coreProperties>
</file>