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BC5D-2987-409E-8976-7C3777D37766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5C74-8ECE-46C9-9585-887440DA0BB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1242-619C-43E4-8635-E1627E2A7F0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그림 1" descr="윤리와사상_ppt_진단평가.png"/>
          <p:cNvPicPr/>
          <p:nvPr/>
        </p:nvPicPr>
        <p:blipFill>
          <a:blip r:embed="rId3"/>
          <a:stretch/>
        </p:blipFill>
        <p:spPr>
          <a:xfrm>
            <a:off x="0" y="0"/>
            <a:ext cx="1714680" cy="8254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그림 2" descr="윤리와사상_ppt_학습정리.png"/>
          <p:cNvPicPr/>
          <p:nvPr/>
        </p:nvPicPr>
        <p:blipFill>
          <a:blip r:embed="rId3"/>
          <a:stretch/>
        </p:blipFill>
        <p:spPr>
          <a:xfrm>
            <a:off x="71280" y="-71280"/>
            <a:ext cx="1643400" cy="92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1" descr="윤리와사상_ppt_탐구활동.png"/>
          <p:cNvPicPr/>
          <p:nvPr/>
        </p:nvPicPr>
        <p:blipFill>
          <a:blip r:embed="rId3"/>
          <a:stretch/>
        </p:blipFill>
        <p:spPr>
          <a:xfrm>
            <a:off x="0" y="0"/>
            <a:ext cx="164304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6286680" y="35712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6286680" y="35712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그림 1" descr="윤리와사상_ppt_탐구활동.png"/>
          <p:cNvPicPr/>
          <p:nvPr/>
        </p:nvPicPr>
        <p:blipFill>
          <a:blip r:embed="rId3"/>
          <a:stretch/>
        </p:blipFill>
        <p:spPr>
          <a:xfrm>
            <a:off x="0" y="0"/>
            <a:ext cx="1643040" cy="920880"/>
          </a:xfrm>
          <a:prstGeom prst="rect">
            <a:avLst/>
          </a:prstGeom>
          <a:ln w="0">
            <a:noFill/>
          </a:ln>
        </p:spPr>
      </p:pic>
      <p:sp>
        <p:nvSpPr>
          <p:cNvPr id="296" name="모서리가 둥근 직사각형 2"/>
          <p:cNvSpPr/>
          <p:nvPr/>
        </p:nvSpPr>
        <p:spPr>
          <a:xfrm>
            <a:off x="5815080" y="919080"/>
            <a:ext cx="1008000" cy="285840"/>
          </a:xfrm>
          <a:prstGeom prst="roundRect">
            <a:avLst>
              <a:gd name="adj" fmla="val 50000"/>
            </a:avLst>
          </a:prstGeom>
          <a:solidFill>
            <a:srgbClr val="31859c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심화 학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모서리가 둥근 직사각형 3"/>
          <p:cNvSpPr/>
          <p:nvPr/>
        </p:nvSpPr>
        <p:spPr>
          <a:xfrm>
            <a:off x="6905520" y="923760"/>
            <a:ext cx="1008000" cy="2811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토론 </a:t>
            </a:r>
            <a:r>
              <a:rPr b="1" lang="en-US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•</a:t>
            </a: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토의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모서리가 둥근 직사각형 4"/>
          <p:cNvSpPr/>
          <p:nvPr/>
        </p:nvSpPr>
        <p:spPr>
          <a:xfrm>
            <a:off x="8001000" y="928800"/>
            <a:ext cx="1008000" cy="285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창의 </a:t>
            </a:r>
            <a:r>
              <a:rPr b="1" lang="en-US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•</a:t>
            </a: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인성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직사각형 1" descr=""/>
          <p:cNvPicPr/>
          <p:nvPr/>
        </p:nvPicPr>
        <p:blipFill>
          <a:blip r:embed="rId1"/>
          <a:stretch/>
        </p:blipFill>
        <p:spPr>
          <a:xfrm>
            <a:off x="2279520" y="2962440"/>
            <a:ext cx="6199200" cy="7617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1"/>
          <p:cNvSpPr/>
          <p:nvPr/>
        </p:nvSpPr>
        <p:spPr>
          <a:xfrm>
            <a:off x="2262240" y="3651120"/>
            <a:ext cx="6453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9. </a:t>
            </a: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도가 </a:t>
            </a: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· </a:t>
            </a: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도교 사상의 특징 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한국 전통 사상과의 융합</a:t>
            </a: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504720" y="928800"/>
            <a:ext cx="8388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2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신비주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</a:t>
            </a:r>
            <a:r>
              <a:rPr b="1" lang="ko-KR" sz="1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노자의 양생론：음식 섭취나 호흡 조절 등의 심신 단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으로 자연의 섭리에 따라 몸과 마음의 균형을 유지하는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것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</a:t>
            </a:r>
            <a:r>
              <a:rPr b="1" lang="ko-KR" sz="1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불로장생하는 신선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神仙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추구 → 내적 기의 흐름을 조절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하는 내단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內丹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과 선약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仙藥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을 복용하는 외단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外丹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0040" y="880920"/>
            <a:ext cx="8388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3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예술 정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미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美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 기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인간의 작위적인 기준을 제시하지 않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道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아름다움이라는 예술적 가치 역시 세속적이고 상대적인 기준이 아니라 절대적인 ‘도’의 관점에서 파악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자연의 미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美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만물이 타고난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도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道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를 자연스럽게 따르는 것이 진정한 아름다움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즉 인위적 기교를 부리지 않는 ‘자연스러움’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강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소박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素朴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의 미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가공되지 않은 자연스러운 아름다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을 의미 → 지미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至美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대미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大美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라고도 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504720" y="928800"/>
            <a:ext cx="8388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위진 시대의 현학자들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예술 작품에 사물의 외면이 아닌 궁극적 본질로서의 ‘도’를 표현 → 여백의 미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채색보다 묵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墨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을 사용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실용적인 목적이나 세속적 기준이 아닌 정신적 자유 추구 → 수묵 산수화를 통해 자연의 아름다움 표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그룹 2" descr=""/>
          <p:cNvPicPr/>
          <p:nvPr/>
        </p:nvPicPr>
        <p:blipFill>
          <a:blip r:embed="rId1"/>
          <a:stretch/>
        </p:blipFill>
        <p:spPr>
          <a:xfrm>
            <a:off x="426960" y="110340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408" name="그룹 2" descr=""/>
          <p:cNvPicPr/>
          <p:nvPr/>
        </p:nvPicPr>
        <p:blipFill>
          <a:blip r:embed="rId2"/>
          <a:stretch/>
        </p:blipFill>
        <p:spPr>
          <a:xfrm>
            <a:off x="426960" y="217656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409" name="그룹 2" descr=""/>
          <p:cNvPicPr/>
          <p:nvPr/>
        </p:nvPicPr>
        <p:blipFill>
          <a:blip r:embed="rId3"/>
          <a:stretch/>
        </p:blipFill>
        <p:spPr>
          <a:xfrm>
            <a:off x="426960" y="3230640"/>
            <a:ext cx="451080" cy="420480"/>
          </a:xfrm>
          <a:prstGeom prst="rect">
            <a:avLst/>
          </a:prstGeom>
          <a:ln w="0">
            <a:noFill/>
          </a:ln>
        </p:spPr>
      </p:pic>
      <p:pic>
        <p:nvPicPr>
          <p:cNvPr id="410" name="그룹 2" descr=""/>
          <p:cNvPicPr/>
          <p:nvPr/>
        </p:nvPicPr>
        <p:blipFill>
          <a:blip r:embed="rId4"/>
          <a:stretch/>
        </p:blipFill>
        <p:spPr>
          <a:xfrm>
            <a:off x="438120" y="4675320"/>
            <a:ext cx="452520" cy="41436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5"/>
          <p:cNvSpPr/>
          <p:nvPr/>
        </p:nvSpPr>
        <p:spPr>
          <a:xfrm>
            <a:off x="905040" y="1071720"/>
            <a:ext cx="74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는 사회적 가치 체계를 세워 질서를 잡고자 하였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6"/>
          <p:cNvSpPr/>
          <p:nvPr/>
        </p:nvSpPr>
        <p:spPr>
          <a:xfrm>
            <a:off x="905040" y="2062080"/>
            <a:ext cx="74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는 ‘도’의 관점에서 만물이 평등하다고 보았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7"/>
          <p:cNvSpPr/>
          <p:nvPr/>
        </p:nvSpPr>
        <p:spPr>
          <a:xfrm>
            <a:off x="905040" y="3133800"/>
            <a:ext cx="74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위진의 현학자들은 이상적 사회상을 제시하여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적극적으로 사회를 개혁하고자 하였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타원 28"/>
          <p:cNvSpPr/>
          <p:nvPr/>
        </p:nvSpPr>
        <p:spPr>
          <a:xfrm>
            <a:off x="7054920" y="2500200"/>
            <a:ext cx="588960" cy="5875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타원 29"/>
          <p:cNvSpPr/>
          <p:nvPr/>
        </p:nvSpPr>
        <p:spPr>
          <a:xfrm>
            <a:off x="7572240" y="1504800"/>
            <a:ext cx="588960" cy="5875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타원 30"/>
          <p:cNvSpPr/>
          <p:nvPr/>
        </p:nvSpPr>
        <p:spPr>
          <a:xfrm>
            <a:off x="7643880" y="3983040"/>
            <a:ext cx="588960" cy="5889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31"/>
          <p:cNvSpPr/>
          <p:nvPr/>
        </p:nvSpPr>
        <p:spPr>
          <a:xfrm>
            <a:off x="905040" y="4579920"/>
            <a:ext cx="745308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 사상은 제례 의식 등에 사용되는 실용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고 사실적인 그림의 발달에 영향을 주었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타원 32"/>
          <p:cNvSpPr/>
          <p:nvPr/>
        </p:nvSpPr>
        <p:spPr>
          <a:xfrm>
            <a:off x="7626240" y="5556240"/>
            <a:ext cx="588960" cy="5875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2" descr="C:\Documents and Settings\Administrator\My Documents\네이트온 받은 파일\클릭2.png"/>
          <p:cNvPicPr/>
          <p:nvPr/>
        </p:nvPicPr>
        <p:blipFill>
          <a:blip r:embed="rId5"/>
          <a:stretch/>
        </p:blipFill>
        <p:spPr>
          <a:xfrm>
            <a:off x="5857920" y="1643040"/>
            <a:ext cx="942840" cy="338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C:\Documents and Settings\Administrator\My Documents\네이트온 받은 파일\클릭2.png"/>
          <p:cNvPicPr/>
          <p:nvPr/>
        </p:nvPicPr>
        <p:blipFill>
          <a:blip r:embed="rId6"/>
          <a:stretch/>
        </p:blipFill>
        <p:spPr>
          <a:xfrm>
            <a:off x="5857920" y="2571840"/>
            <a:ext cx="942840" cy="338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C:\Documents and Settings\Administrator\My Documents\네이트온 받은 파일\클릭2.png"/>
          <p:cNvPicPr/>
          <p:nvPr/>
        </p:nvPicPr>
        <p:blipFill>
          <a:blip r:embed="rId7"/>
          <a:stretch/>
        </p:blipFill>
        <p:spPr>
          <a:xfrm>
            <a:off x="5857920" y="4091040"/>
            <a:ext cx="942840" cy="338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C:\Documents and Settings\Administrator\My Documents\네이트온 받은 파일\클릭2.png"/>
          <p:cNvPicPr/>
          <p:nvPr/>
        </p:nvPicPr>
        <p:blipFill>
          <a:blip r:embed="rId8"/>
          <a:stretch/>
        </p:blipFill>
        <p:spPr>
          <a:xfrm>
            <a:off x="5857920" y="5643720"/>
            <a:ext cx="94284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그룹 2" descr=""/>
          <p:cNvPicPr/>
          <p:nvPr/>
        </p:nvPicPr>
        <p:blipFill>
          <a:blip r:embed="rId1"/>
          <a:stretch/>
        </p:blipFill>
        <p:spPr>
          <a:xfrm>
            <a:off x="378000" y="1085760"/>
            <a:ext cx="450720" cy="414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13"/>
          <p:cNvSpPr/>
          <p:nvPr/>
        </p:nvSpPr>
        <p:spPr>
          <a:xfrm>
            <a:off x="857160" y="100008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다음 글을 통해 알 수 있는 도가 사상의 특징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로 옳지 않은 것은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타원 14"/>
          <p:cNvSpPr/>
          <p:nvPr/>
        </p:nvSpPr>
        <p:spPr>
          <a:xfrm>
            <a:off x="768240" y="5649840"/>
            <a:ext cx="588960" cy="5875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직사각형 16"/>
          <p:cNvSpPr/>
          <p:nvPr/>
        </p:nvSpPr>
        <p:spPr>
          <a:xfrm>
            <a:off x="880920" y="2041560"/>
            <a:ext cx="7786800" cy="2160720"/>
          </a:xfrm>
          <a:prstGeom prst="rect">
            <a:avLst/>
          </a:prstGeom>
          <a:solidFill>
            <a:srgbClr val="d9d9d9"/>
          </a:solidFill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유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有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와 무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無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는 상대적인 뜻에서 생겨났고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어려운 것과 쉬운 것도 상대적인 입장에서 이루어지며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긴 것과 짧은 것도 상대적으로 비교하는 데서 있게 되고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높은 것과 낮은 것도 상대적인 관념에서 있게 되며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음악과 소리도 상대적인 소리의 조화의 구별에서 생겨나고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앞과 뒤도 상대적인 개념의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구별에 불과하다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직사각형 17"/>
          <p:cNvSpPr/>
          <p:nvPr/>
        </p:nvSpPr>
        <p:spPr>
          <a:xfrm>
            <a:off x="809640" y="4202280"/>
            <a:ext cx="81439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만물은 상대적인 가치를 지닌다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② ‘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’의 관점에서 모든 것은 평등하다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옳고 그름에 대한 절대적 기준은 없다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④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 세상에서 음악과 소리가 가장 자연에 가깝다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2" descr="C:\Documents and Settings\Administrator\My Documents\네이트온 받은 파일\클릭2.png"/>
          <p:cNvPicPr/>
          <p:nvPr/>
        </p:nvPicPr>
        <p:blipFill>
          <a:blip r:embed="rId2"/>
          <a:stretch/>
        </p:blipFill>
        <p:spPr>
          <a:xfrm>
            <a:off x="4000680" y="1542960"/>
            <a:ext cx="94284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직사각형 3"/>
          <p:cNvSpPr/>
          <p:nvPr/>
        </p:nvSpPr>
        <p:spPr>
          <a:xfrm>
            <a:off x="1857240" y="2557440"/>
            <a:ext cx="56437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의 상대주의적 세계관과 평등적 세계관을 이해할 수 있다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그림 2" descr=""/>
          <p:cNvPicPr/>
          <p:nvPr/>
        </p:nvPicPr>
        <p:blipFill>
          <a:blip r:embed="rId1"/>
          <a:stretch/>
        </p:blipFill>
        <p:spPr>
          <a:xfrm>
            <a:off x="1709640" y="3903840"/>
            <a:ext cx="150840" cy="142560"/>
          </a:xfrm>
          <a:prstGeom prst="rect">
            <a:avLst/>
          </a:prstGeom>
          <a:ln w="0">
            <a:noFill/>
          </a:ln>
        </p:spPr>
      </p:pic>
      <p:pic>
        <p:nvPicPr>
          <p:cNvPr id="385" name="그림 2" descr=""/>
          <p:cNvPicPr/>
          <p:nvPr/>
        </p:nvPicPr>
        <p:blipFill>
          <a:blip r:embed="rId2"/>
          <a:stretch/>
        </p:blipFill>
        <p:spPr>
          <a:xfrm>
            <a:off x="1685880" y="2705040"/>
            <a:ext cx="150840" cy="142920"/>
          </a:xfrm>
          <a:prstGeom prst="rect">
            <a:avLst/>
          </a:prstGeom>
          <a:ln w="0">
            <a:noFill/>
          </a:ln>
        </p:spPr>
      </p:pic>
      <p:sp>
        <p:nvSpPr>
          <p:cNvPr id="386" name="직사각형 6"/>
          <p:cNvSpPr/>
          <p:nvPr/>
        </p:nvSpPr>
        <p:spPr>
          <a:xfrm>
            <a:off x="1857240" y="3789360"/>
            <a:ext cx="56437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의 개인주의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신비주의와 예술 정신의 특징을 이해할 수 있다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직사각형 7"/>
          <p:cNvSpPr/>
          <p:nvPr/>
        </p:nvSpPr>
        <p:spPr>
          <a:xfrm>
            <a:off x="714240" y="9381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다음 글을 읽고 물음에 답해 보자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타원 5"/>
          <p:cNvSpPr/>
          <p:nvPr/>
        </p:nvSpPr>
        <p:spPr>
          <a:xfrm>
            <a:off x="571680" y="1062000"/>
            <a:ext cx="142560" cy="142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390" name="직사각형 4"/>
          <p:cNvSpPr/>
          <p:nvPr/>
        </p:nvSpPr>
        <p:spPr>
          <a:xfrm>
            <a:off x="4143240" y="1600200"/>
            <a:ext cx="4786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무릇 생명이 있는 것은 사람으로부터 소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말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돼지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염소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곤충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개미에 이르기까지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삶을 사랑하고 죽음을 사랑하는 마음이 같은 법이라오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그대의 열 손가락을 깨물어 보시오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가장 굵은 엄지손가락만 아프고 그 나머지 작은 손가락들은 안 아프겠소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? 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하물며 각각 다른 생명을 가지고 태어난 동물들은 어떻겠소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…… 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그대는 물러가서 마음을 고요히 하고 가만히 생각해 보시오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달팽이 뿔을 쇠뿔과 같이 보고 참새와 붕새를 평등하게 보게 된 연후에야 나는 그대와 도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道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에 대해 말할 수 있을 것이오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                  </a:t>
            </a:r>
            <a:r>
              <a:rPr b="0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- </a:t>
            </a:r>
            <a:r>
              <a:rPr b="0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규보</a:t>
            </a:r>
            <a:r>
              <a:rPr b="0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“</a:t>
            </a:r>
            <a:r>
              <a:rPr b="0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슬견설” </a:t>
            </a:r>
            <a:r>
              <a:rPr b="0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직사각형 15"/>
          <p:cNvSpPr/>
          <p:nvPr/>
        </p:nvSpPr>
        <p:spPr>
          <a:xfrm>
            <a:off x="1071720" y="1405080"/>
            <a:ext cx="87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윗글을 통해 얻을 수 있는 교훈은 무엇일까</a:t>
            </a:r>
            <a:r>
              <a:rPr b="1" lang="en-US" sz="28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직사각형 5"/>
          <p:cNvSpPr/>
          <p:nvPr/>
        </p:nvSpPr>
        <p:spPr>
          <a:xfrm>
            <a:off x="361440" y="117000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504d"/>
                </a:solidFill>
                <a:latin typeface="Arial"/>
              </a:rPr>
              <a:t>Q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모서리가 둥근 직사각형 3"/>
          <p:cNvSpPr/>
          <p:nvPr/>
        </p:nvSpPr>
        <p:spPr>
          <a:xfrm>
            <a:off x="857160" y="2357280"/>
            <a:ext cx="7929720" cy="3143520"/>
          </a:xfrm>
          <a:prstGeom prst="roundRect">
            <a:avLst>
              <a:gd name="adj" fmla="val 9880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C:\Documents and Settings\Administrator\My Documents\네이트온 받은 파일\마우스.png"/>
          <p:cNvPicPr/>
          <p:nvPr/>
        </p:nvPicPr>
        <p:blipFill>
          <a:blip r:embed="rId1"/>
          <a:stretch/>
        </p:blipFill>
        <p:spPr>
          <a:xfrm>
            <a:off x="4572000" y="3500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95" name="직사각형 6"/>
          <p:cNvSpPr/>
          <p:nvPr/>
        </p:nvSpPr>
        <p:spPr>
          <a:xfrm>
            <a:off x="1000080" y="3068640"/>
            <a:ext cx="7572600" cy="1117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이 세상 모든 생명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사물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은 평등한 가치를 지녔으므로 차별하면 안 된다는 것이다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1"/>
          <p:cNvSpPr/>
          <p:nvPr/>
        </p:nvSpPr>
        <p:spPr>
          <a:xfrm>
            <a:off x="353880" y="966960"/>
            <a:ext cx="7985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1.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상대주의적 세계관과 평등적 세계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514440" y="1500120"/>
            <a:ext cx="8388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1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상대주의적 세계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노자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우주 만물은 도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道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에서 생성됨 →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도의 관점에서 시비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,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선악 등은 상대적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유가에서 강조하는 인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예와 같은 덕도 상대적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장자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 세상 만물은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호 의존적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고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대적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아름다움과 추함 등의 가치 기준은 인간이 인위적으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만든 것 → 사람들의 가치 판단은 상대적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520560" y="928800"/>
            <a:ext cx="838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의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1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인간의 불행과 사회적 혼란의 원인：만물의 상대성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해하지 못하고 집착하기 때문이라고 설명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정신적 자유 강조：단순히 가치 상대주의를 주장하는 것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 아니라 물아일체의 절대적 자유의 경지에 이를 것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을 강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만물이 상대적 가치를 지녔다고 보았기 때문에 사물의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가치의 경중을 따지지 않음 →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평등주의로 연결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04720" y="853920"/>
            <a:ext cx="838836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2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평등주의적 세계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노자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우주 만물은 도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道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에서 생성됨 → 도는 ‘천하의 어머니’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어머니가 자식에게 공평한 사랑을 베풀 듯이 도는 만물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을 평등하게 대함 →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도의 관점에서 만물은 평등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장자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전체의 관점에서 보면 만물은 평등함 → 사물은 모두 ‘저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것’ 임과 동시에 ‘이것’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관점의 차이일 뿐 동등한 가치를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지님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사물을 한결같이 보는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‘제물’ 강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504720" y="981000"/>
            <a:ext cx="8388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의 평등주의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의 평등적 세계관 계승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태평도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오두미교：신분의 귀천을 가리지 않았으며 누구나 신선이 될 수 있다고 주장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1"/>
          <p:cNvSpPr/>
          <p:nvPr/>
        </p:nvSpPr>
        <p:spPr>
          <a:xfrm>
            <a:off x="372960" y="923760"/>
            <a:ext cx="79851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2.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개인주의</a:t>
            </a: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·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신비주의와 예술 정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504720" y="1555920"/>
            <a:ext cx="8388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1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개인주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인위적 사회 규범이나 제도를 강요하지 않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인간의 본질을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무위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無爲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에서 찾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장자：개인의 정신적 자유를 강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④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현학자들：속세를 초월한 개인의 정신적 삶에 집중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971640" y="4365720"/>
          <a:ext cx="6529320" cy="1859040"/>
        </p:xfrm>
        <a:graphic>
          <a:graphicData uri="http://schemas.openxmlformats.org/drawingml/2006/table">
            <a:tbl>
              <a:tblPr/>
              <a:tblGrid>
                <a:gridCol w="3265560"/>
                <a:gridCol w="3263760"/>
              </a:tblGrid>
              <a:tr h="3603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유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3e6fd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도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3e6fd"/>
                    </a:solidFill>
                  </a:tcPr>
                </a:tc>
              </a:tr>
              <a:tr h="1498680">
                <a:tc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인간을 독립적 존재가 아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사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적 관계 속에서 파악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·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예와 같은 사회적 규범 강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cfbf9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개인의 정신적 자유 강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인위적인 사회적 가치에 얽매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지 않고 스스로 만족하는 삶 제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cfb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6:35:17Z</dcterms:created>
  <dc:creator>(주)미래엔 교육 개발 1실</dc:creator>
  <dc:description/>
  <dc:language>en-US</dc:language>
  <cp:lastModifiedBy>misuser</cp:lastModifiedBy>
  <dcterms:modified xsi:type="dcterms:W3CDTF">2013-12-06T07:58:49Z</dcterms:modified>
  <cp:revision>849</cp:revision>
  <dc:subject/>
  <dc:title>PowerPoint 프레젠테이션</dc:title>
</cp:coreProperties>
</file>