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765F-114A-4CEA-8F5D-15E545759909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7CD-8B60-4194-A588-B130C2CB810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C6E-5F73-4A4A-A711-66277E706B5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그림 1" descr="윤리와사상_ppt_진단평가.png"/>
          <p:cNvPicPr/>
          <p:nvPr/>
        </p:nvPicPr>
        <p:blipFill>
          <a:blip r:embed="rId3"/>
          <a:stretch/>
        </p:blipFill>
        <p:spPr>
          <a:xfrm>
            <a:off x="0" y="0"/>
            <a:ext cx="1714680" cy="8254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그림 2" descr="윤리와사상_ppt_학습정리.png"/>
          <p:cNvPicPr/>
          <p:nvPr/>
        </p:nvPicPr>
        <p:blipFill>
          <a:blip r:embed="rId3"/>
          <a:stretch/>
        </p:blipFill>
        <p:spPr>
          <a:xfrm>
            <a:off x="71280" y="-71280"/>
            <a:ext cx="1643400" cy="92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그림 1" descr="윤리와사상_ppt_생각열기.png"/>
          <p:cNvPicPr/>
          <p:nvPr/>
        </p:nvPicPr>
        <p:blipFill>
          <a:blip r:embed="rId3"/>
          <a:stretch/>
        </p:blipFill>
        <p:spPr>
          <a:xfrm>
            <a:off x="0" y="100080"/>
            <a:ext cx="1571760" cy="757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6286680" y="35712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그림 1" descr="윤리와사상_ppt_탐구활동.png"/>
          <p:cNvPicPr/>
          <p:nvPr/>
        </p:nvPicPr>
        <p:blipFill>
          <a:blip r:embed="rId3"/>
          <a:stretch/>
        </p:blipFill>
        <p:spPr>
          <a:xfrm>
            <a:off x="0" y="0"/>
            <a:ext cx="1643040" cy="920880"/>
          </a:xfrm>
          <a:prstGeom prst="rect">
            <a:avLst/>
          </a:prstGeom>
          <a:ln w="0">
            <a:noFill/>
          </a:ln>
        </p:spPr>
      </p:pic>
      <p:sp>
        <p:nvSpPr>
          <p:cNvPr id="296" name="모서리가 둥근 직사각형 2"/>
          <p:cNvSpPr/>
          <p:nvPr/>
        </p:nvSpPr>
        <p:spPr>
          <a:xfrm>
            <a:off x="5815080" y="919080"/>
            <a:ext cx="1008000" cy="285840"/>
          </a:xfrm>
          <a:prstGeom prst="roundRect">
            <a:avLst>
              <a:gd name="adj" fmla="val 50000"/>
            </a:avLst>
          </a:prstGeom>
          <a:solidFill>
            <a:srgbClr val="31859c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심화 학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모서리가 둥근 직사각형 3"/>
          <p:cNvSpPr/>
          <p:nvPr/>
        </p:nvSpPr>
        <p:spPr>
          <a:xfrm>
            <a:off x="6905520" y="923760"/>
            <a:ext cx="1008000" cy="2811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토론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모서리가 둥근 직사각형 4"/>
          <p:cNvSpPr/>
          <p:nvPr/>
        </p:nvSpPr>
        <p:spPr>
          <a:xfrm>
            <a:off x="8001000" y="928800"/>
            <a:ext cx="1008000" cy="28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3d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창의 </a:t>
            </a:r>
            <a:r>
              <a:rPr b="1" lang="en-US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• </a:t>
            </a:r>
            <a:r>
              <a:rPr b="1" lang="ko-KR" sz="1100" spc="-1" strike="noStrike">
                <a:solidFill>
                  <a:srgbClr val="948a54"/>
                </a:solidFill>
                <a:latin typeface="맑은 고딕"/>
                <a:ea typeface="맑은 고딕"/>
              </a:rPr>
              <a:t>인성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직사각형 1" descr=""/>
          <p:cNvPicPr/>
          <p:nvPr/>
        </p:nvPicPr>
        <p:blipFill>
          <a:blip r:embed="rId1"/>
          <a:stretch/>
        </p:blipFill>
        <p:spPr>
          <a:xfrm>
            <a:off x="2279520" y="3035160"/>
            <a:ext cx="6199200" cy="7621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1"/>
          <p:cNvSpPr/>
          <p:nvPr/>
        </p:nvSpPr>
        <p:spPr>
          <a:xfrm>
            <a:off x="2048040" y="3722760"/>
            <a:ext cx="6453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8. 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가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·</a:t>
            </a: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도교 사상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연원과 전개</a:t>
            </a:r>
            <a:r>
              <a:rPr b="1" lang="en-US" sz="40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1"/>
          <p:cNvSpPr/>
          <p:nvPr/>
        </p:nvSpPr>
        <p:spPr>
          <a:xfrm>
            <a:off x="372960" y="92232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2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장자의 사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504720" y="1419120"/>
            <a:ext cx="838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특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 사상을 기반으로 발전：모든 존재와 현상의 근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에서 찾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88920" y="3071880"/>
          <a:ext cx="7083360" cy="1071360"/>
        </p:xfrm>
        <a:graphic>
          <a:graphicData uri="http://schemas.openxmlformats.org/drawingml/2006/table">
            <a:tbl>
              <a:tblPr/>
              <a:tblGrid>
                <a:gridCol w="7083360"/>
              </a:tblGrid>
              <a:tr h="1071360"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는 땅강아지나 개미한테도 있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기와나 벽돌에도 있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똥이나 오줌에도 있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beef4"/>
                    </a:solidFill>
                  </a:tcPr>
                </a:tc>
              </a:tr>
            </a:tbl>
          </a:graphicData>
        </a:graphic>
      </p:graphicFrame>
      <p:sp>
        <p:nvSpPr>
          <p:cNvPr id="410" name="Rectangle 7"/>
          <p:cNvSpPr/>
          <p:nvPr/>
        </p:nvSpPr>
        <p:spPr>
          <a:xfrm>
            <a:off x="514440" y="4216320"/>
            <a:ext cx="8388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 사상을 노장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老莊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상이라고도 함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비유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우화적 표현을 사용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④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내적 깨달음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·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정신적 자유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⑤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저서：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莊子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04720" y="88596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인 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인 삶의 자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소요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이리저리 거닌다는 의미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속된 세상을 떠나 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운 정신적 자유를 누리는 경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제물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세상 만물을 차별하지 않고 한결같이 보는 경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물아일체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物我一體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자연과 내가 하나가 되는 경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수양 방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en-US" sz="24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좌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가만히 앉아서 일체를 잊는 무아의 경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심재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잡념을 없애고 마음을 통일하여 깨끗이 하는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</a:t>
            </a:r>
            <a:r>
              <a:rPr b="1" lang="ko-KR" sz="1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 인간상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지인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至人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진인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眞人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,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천인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天人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</a:t>
            </a:r>
            <a:r>
              <a:rPr b="1" lang="en-US" sz="14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신인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神人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그룹 2" descr=""/>
          <p:cNvPicPr/>
          <p:nvPr/>
        </p:nvPicPr>
        <p:blipFill>
          <a:blip r:embed="rId1"/>
          <a:stretch/>
        </p:blipFill>
        <p:spPr>
          <a:xfrm>
            <a:off x="426960" y="12063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413" name="그룹 2" descr=""/>
          <p:cNvPicPr/>
          <p:nvPr/>
        </p:nvPicPr>
        <p:blipFill>
          <a:blip r:embed="rId2"/>
          <a:stretch/>
        </p:blipFill>
        <p:spPr>
          <a:xfrm>
            <a:off x="426960" y="2730600"/>
            <a:ext cx="457200" cy="420480"/>
          </a:xfrm>
          <a:prstGeom prst="rect">
            <a:avLst/>
          </a:prstGeom>
          <a:ln w="0">
            <a:noFill/>
          </a:ln>
        </p:spPr>
      </p:pic>
      <p:pic>
        <p:nvPicPr>
          <p:cNvPr id="414" name="그룹 2" descr=""/>
          <p:cNvPicPr/>
          <p:nvPr/>
        </p:nvPicPr>
        <p:blipFill>
          <a:blip r:embed="rId3"/>
          <a:stretch/>
        </p:blipFill>
        <p:spPr>
          <a:xfrm>
            <a:off x="426960" y="38037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415" name="그룹 2" descr=""/>
          <p:cNvPicPr/>
          <p:nvPr/>
        </p:nvPicPr>
        <p:blipFill>
          <a:blip r:embed="rId4"/>
          <a:stretch/>
        </p:blipFill>
        <p:spPr>
          <a:xfrm>
            <a:off x="426960" y="481644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25"/>
          <p:cNvSpPr/>
          <p:nvPr/>
        </p:nvSpPr>
        <p:spPr>
          <a:xfrm>
            <a:off x="905040" y="1143000"/>
            <a:ext cx="75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는 당시 사회 혼란의 원인을 인과 예와 같은 도덕성이 실현되지 못하였기 때문이라고 보았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6"/>
          <p:cNvSpPr/>
          <p:nvPr/>
        </p:nvSpPr>
        <p:spPr>
          <a:xfrm>
            <a:off x="905040" y="263700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는 성인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聖人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무위지치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爲之治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이상적으로 생각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7"/>
          <p:cNvSpPr/>
          <p:nvPr/>
        </p:nvSpPr>
        <p:spPr>
          <a:xfrm>
            <a:off x="905040" y="370836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는 외물에 얽매이지 말고 정신적으로 자유로울 것을 강조하였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타원 28"/>
          <p:cNvSpPr/>
          <p:nvPr/>
        </p:nvSpPr>
        <p:spPr>
          <a:xfrm>
            <a:off x="7072200" y="3071880"/>
            <a:ext cx="588960" cy="587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타원 29"/>
          <p:cNvSpPr/>
          <p:nvPr/>
        </p:nvSpPr>
        <p:spPr>
          <a:xfrm>
            <a:off x="7667640" y="198900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타원 30"/>
          <p:cNvSpPr/>
          <p:nvPr/>
        </p:nvSpPr>
        <p:spPr>
          <a:xfrm>
            <a:off x="7072200" y="4143240"/>
            <a:ext cx="588960" cy="5889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1"/>
          <p:cNvSpPr/>
          <p:nvPr/>
        </p:nvSpPr>
        <p:spPr>
          <a:xfrm>
            <a:off x="905040" y="475776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장자가 생각한 이상적인 인간은 대인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대장부이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	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</a:t>
            </a:r>
            <a:r>
              <a:rPr b="1" lang="en-US" sz="2800" spc="-1" strike="noStrike">
                <a:solidFill>
                  <a:srgbClr val="232323"/>
                </a:solidFill>
                <a:latin typeface="Arial"/>
              </a:rPr>
              <a:t>( O , X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타원 32"/>
          <p:cNvSpPr/>
          <p:nvPr/>
        </p:nvSpPr>
        <p:spPr>
          <a:xfrm>
            <a:off x="7643880" y="521496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2" descr="C:\Documents and Settings\Administrator\My Documents\네이트온 받은 파일\클릭2.png"/>
          <p:cNvPicPr/>
          <p:nvPr/>
        </p:nvPicPr>
        <p:blipFill>
          <a:blip r:embed="rId5"/>
          <a:stretch/>
        </p:blipFill>
        <p:spPr>
          <a:xfrm>
            <a:off x="5986440" y="2119320"/>
            <a:ext cx="942840" cy="338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C:\Documents and Settings\Administrator\My Documents\네이트온 받은 파일\클릭2.png"/>
          <p:cNvPicPr/>
          <p:nvPr/>
        </p:nvPicPr>
        <p:blipFill>
          <a:blip r:embed="rId6"/>
          <a:stretch/>
        </p:blipFill>
        <p:spPr>
          <a:xfrm>
            <a:off x="5986440" y="3162240"/>
            <a:ext cx="942840" cy="338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2" descr="C:\Documents and Settings\Administrator\My Documents\네이트온 받은 파일\클릭2.png"/>
          <p:cNvPicPr/>
          <p:nvPr/>
        </p:nvPicPr>
        <p:blipFill>
          <a:blip r:embed="rId7"/>
          <a:stretch/>
        </p:blipFill>
        <p:spPr>
          <a:xfrm>
            <a:off x="5986440" y="4224240"/>
            <a:ext cx="942840" cy="338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C:\Documents and Settings\Administrator\My Documents\네이트온 받은 파일\클릭2.png"/>
          <p:cNvPicPr/>
          <p:nvPr/>
        </p:nvPicPr>
        <p:blipFill>
          <a:blip r:embed="rId8"/>
          <a:stretch/>
        </p:blipFill>
        <p:spPr>
          <a:xfrm>
            <a:off x="5986440" y="5329080"/>
            <a:ext cx="94284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그룹 2" descr=""/>
          <p:cNvPicPr/>
          <p:nvPr/>
        </p:nvPicPr>
        <p:blipFill>
          <a:blip r:embed="rId1"/>
          <a:stretch/>
        </p:blipFill>
        <p:spPr>
          <a:xfrm>
            <a:off x="378000" y="124308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857160" y="1163520"/>
            <a:ext cx="80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의 ‘도’에 대한 설명으로 옳지 않은 것은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타원 14"/>
          <p:cNvSpPr/>
          <p:nvPr/>
        </p:nvSpPr>
        <p:spPr>
          <a:xfrm>
            <a:off x="781200" y="5556240"/>
            <a:ext cx="588960" cy="5875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직사각형 16"/>
          <p:cNvSpPr/>
          <p:nvPr/>
        </p:nvSpPr>
        <p:spPr>
          <a:xfrm>
            <a:off x="880920" y="2182680"/>
            <a:ext cx="7786800" cy="1800360"/>
          </a:xfrm>
          <a:prstGeom prst="rect">
            <a:avLst/>
          </a:prstGeom>
          <a:solidFill>
            <a:srgbClr val="d9d9d9"/>
          </a:solidFill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말로 표현할 수 있는 도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는 영원불변의 도가 아니요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름지어 부를 수 있는 이름은 참다운 실재의 이름이 아니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는 천지의 시초를 이름이요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有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는 만물의 모태를 이른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무에서 항상 도의 오묘한 작용을 보아야 하고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유에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항상 만물의 오묘한 변화를 살펴야 한다</a:t>
            </a:r>
            <a:r>
              <a:rPr b="1" lang="en-US" sz="2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직사각형 17"/>
          <p:cNvSpPr/>
          <p:nvPr/>
        </p:nvSpPr>
        <p:spPr>
          <a:xfrm>
            <a:off x="809640" y="3983040"/>
            <a:ext cx="81439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①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연을 따르는 것이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②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만물의 생성과 존재의 원리이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③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절대적이고 근본적인 가치를 지닌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④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예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지와 같은 덕을 통해 실현된다</a:t>
            </a: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2" descr="C:\Documents and Settings\Administrator\My Documents\네이트온 받은 파일\클릭2.png"/>
          <p:cNvPicPr/>
          <p:nvPr/>
        </p:nvPicPr>
        <p:blipFill>
          <a:blip r:embed="rId2"/>
          <a:stretch/>
        </p:blipFill>
        <p:spPr>
          <a:xfrm>
            <a:off x="928800" y="1714680"/>
            <a:ext cx="94284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직사각형 3"/>
          <p:cNvSpPr/>
          <p:nvPr/>
        </p:nvSpPr>
        <p:spPr>
          <a:xfrm>
            <a:off x="1857240" y="228744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가 사상의 성립 배경을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그림 2" descr=""/>
          <p:cNvPicPr/>
          <p:nvPr/>
        </p:nvPicPr>
        <p:blipFill>
          <a:blip r:embed="rId1"/>
          <a:stretch/>
        </p:blipFill>
        <p:spPr>
          <a:xfrm>
            <a:off x="1719360" y="3198960"/>
            <a:ext cx="150840" cy="142560"/>
          </a:xfrm>
          <a:prstGeom prst="rect">
            <a:avLst/>
          </a:prstGeom>
          <a:ln w="0">
            <a:noFill/>
          </a:ln>
        </p:spPr>
      </p:pic>
      <p:pic>
        <p:nvPicPr>
          <p:cNvPr id="385" name="그림 2" descr=""/>
          <p:cNvPicPr/>
          <p:nvPr/>
        </p:nvPicPr>
        <p:blipFill>
          <a:blip r:embed="rId2"/>
          <a:stretch/>
        </p:blipFill>
        <p:spPr>
          <a:xfrm>
            <a:off x="1709640" y="4016520"/>
            <a:ext cx="150840" cy="142560"/>
          </a:xfrm>
          <a:prstGeom prst="rect">
            <a:avLst/>
          </a:prstGeom>
          <a:ln w="0">
            <a:noFill/>
          </a:ln>
        </p:spPr>
      </p:pic>
      <p:pic>
        <p:nvPicPr>
          <p:cNvPr id="386" name="그림 2" descr=""/>
          <p:cNvPicPr/>
          <p:nvPr/>
        </p:nvPicPr>
        <p:blipFill>
          <a:blip r:embed="rId3"/>
          <a:stretch/>
        </p:blipFill>
        <p:spPr>
          <a:xfrm>
            <a:off x="1685880" y="2435400"/>
            <a:ext cx="150840" cy="142560"/>
          </a:xfrm>
          <a:prstGeom prst="rect">
            <a:avLst/>
          </a:prstGeom>
          <a:ln w="0">
            <a:noFill/>
          </a:ln>
        </p:spPr>
      </p:pic>
      <p:sp>
        <p:nvSpPr>
          <p:cNvPr id="387" name="직사각형 6"/>
          <p:cNvSpPr/>
          <p:nvPr/>
        </p:nvSpPr>
        <p:spPr>
          <a:xfrm>
            <a:off x="1857240" y="307008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와 장자 사상의 특징을 설명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직사각형 7"/>
          <p:cNvSpPr/>
          <p:nvPr/>
        </p:nvSpPr>
        <p:spPr>
          <a:xfrm>
            <a:off x="1857240" y="3854520"/>
            <a:ext cx="5715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노자와 장자 사상의 내용을 비교의 관점에서 이해할 수 있다</a:t>
            </a:r>
            <a:r>
              <a:rPr b="1" lang="en-US" sz="23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직사각형 7"/>
          <p:cNvSpPr/>
          <p:nvPr/>
        </p:nvSpPr>
        <p:spPr>
          <a:xfrm>
            <a:off x="714240" y="9572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다음 글을 읽고 물음에 답해 보자</a:t>
            </a:r>
            <a:r>
              <a:rPr b="1" lang="en-US" sz="20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타원 5"/>
          <p:cNvSpPr/>
          <p:nvPr/>
        </p:nvSpPr>
        <p:spPr>
          <a:xfrm>
            <a:off x="571680" y="1090440"/>
            <a:ext cx="142560" cy="142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642960" y="2128680"/>
            <a:ext cx="8231040" cy="3171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3286080" y="2857680"/>
            <a:ext cx="48578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궁서체"/>
                <a:ea typeface="궁서체"/>
              </a:rPr>
              <a:t>현란한 색깔은 사람의 눈을 멀게 하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궁서체"/>
                <a:ea typeface="궁서체"/>
              </a:rPr>
              <a:t>현란한 소리는 사람의 귀를 멀게 하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궁서체"/>
                <a:ea typeface="궁서체"/>
              </a:rPr>
              <a:t>현란한 맛은 사람의 입을 해치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궁서체"/>
                <a:ea typeface="궁서체"/>
              </a:rPr>
              <a:t>얻기 어려운 재물은 사람의 행동을 그릇되게 한다</a:t>
            </a:r>
            <a:r>
              <a:rPr b="0" lang="en-US" sz="2000" spc="-1" strike="noStrike">
                <a:solidFill>
                  <a:srgbClr val="000000"/>
                </a:solidFill>
                <a:latin typeface="궁서체"/>
                <a:ea typeface="궁서체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노자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“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덕경”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직사각형 15"/>
          <p:cNvSpPr/>
          <p:nvPr/>
        </p:nvSpPr>
        <p:spPr>
          <a:xfrm>
            <a:off x="1071720" y="13572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윗글을 통해 노자가 우리에게 전하고 싶은 바는 무엇일까</a:t>
            </a:r>
            <a:r>
              <a:rPr b="1" lang="en-US" sz="28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5"/>
          <p:cNvSpPr/>
          <p:nvPr/>
        </p:nvSpPr>
        <p:spPr>
          <a:xfrm>
            <a:off x="361440" y="117000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Arial"/>
              </a:rPr>
              <a:t>Q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모서리가 둥근 직사각형 3"/>
          <p:cNvSpPr/>
          <p:nvPr/>
        </p:nvSpPr>
        <p:spPr>
          <a:xfrm>
            <a:off x="857160" y="2357280"/>
            <a:ext cx="7929720" cy="3143520"/>
          </a:xfrm>
          <a:prstGeom prst="roundRect">
            <a:avLst>
              <a:gd name="adj" fmla="val 988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C:\Documents and Settings\Administrator\My Documents\네이트온 받은 파일\마우스.png"/>
          <p:cNvPicPr/>
          <p:nvPr/>
        </p:nvPicPr>
        <p:blipFill>
          <a:blip r:embed="rId1"/>
          <a:stretch/>
        </p:blipFill>
        <p:spPr>
          <a:xfrm>
            <a:off x="4572000" y="3500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97" name="직사각형 6"/>
          <p:cNvSpPr/>
          <p:nvPr/>
        </p:nvSpPr>
        <p:spPr>
          <a:xfrm>
            <a:off x="1000080" y="2643120"/>
            <a:ext cx="7572600" cy="162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현란한 색깔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소리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·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맛이나 재물은 모두 인위적인 것이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노자는 이와 같은 인위가 사람을 해치므로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, </a:t>
            </a:r>
            <a:r>
              <a:rPr b="1" lang="ko-KR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무위 자연하는 삶을 살아야 한다고 말하고 있다</a:t>
            </a:r>
            <a:r>
              <a:rPr b="1" lang="en-US" sz="2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1"/>
          <p:cNvSpPr/>
          <p:nvPr/>
        </p:nvSpPr>
        <p:spPr>
          <a:xfrm>
            <a:off x="353880" y="966960"/>
            <a:ext cx="798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1. </a:t>
            </a:r>
            <a:r>
              <a:rPr b="1" lang="ko-KR" sz="3200" spc="-1" strike="noStrike">
                <a:solidFill>
                  <a:srgbClr val="984807"/>
                </a:solidFill>
                <a:latin typeface="맑은 고딕"/>
                <a:ea typeface="맑은 고딕"/>
              </a:rPr>
              <a:t>노자의 사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504720" y="149076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1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등장 배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춘주 전국 시대의 사회적 혼란 속에서 등장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仁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예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禮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를 강조하는 유가 비판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사회 혼란의 원인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간의 그릇된 인식과 가치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인위적 사회 제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22360" y="905040"/>
            <a:ext cx="83883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2) </a:t>
            </a:r>
            <a:r>
              <a:rPr b="1" lang="ko-KR" sz="2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핵심 사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절대적이고 본원적인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만물의 생성과 존재의 원리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모든 것은 ‘도’에서 시작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14320" y="3111480"/>
          <a:ext cx="7543800" cy="3341880"/>
        </p:xfrm>
        <a:graphic>
          <a:graphicData uri="http://schemas.openxmlformats.org/drawingml/2006/table">
            <a:tbl>
              <a:tblPr/>
              <a:tblGrid>
                <a:gridCol w="1185840"/>
                <a:gridCol w="6357960"/>
              </a:tblGrid>
              <a:tr h="334188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의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특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말로 표현할 수 있는 도는 영원불변의 도가 아니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지어 부를 수 있는 이름은 참다운 실재의 이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 아니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려 해도 보이지 않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들으려 해도 들리지 않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려 해도 만져지지 않는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32323"/>
                          </a:solidFill>
                          <a:latin typeface="맑은 고딕"/>
                          <a:ea typeface="맑은 고딕"/>
                        </a:rPr>
                        <a:t>• 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가 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을 낳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이 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낳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가 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을 낳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삼이 만물을 낳는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14440" y="909720"/>
            <a:ext cx="83883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德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도가 현실 속에서 구체적으로 드러난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연의 도와 일치하는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무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無爲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의 덕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의식적으로 노력하는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유위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有爲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의 덕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있음 → 무위의 덕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[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爲自然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]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이상적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저서：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”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도덕경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道德經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23800" y="938160"/>
            <a:ext cx="8388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3)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인 삶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①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인 삶의 자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무위자연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無爲自然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인위적으로 무언가 하지 않고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자연의 질서를 따르는 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선약수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上善若水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‘으뜸되는 선은 물과 같다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.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’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라는 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미로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,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물이 지닌 부쟁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不爭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과 겸허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謙虛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의 덕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en-US" sz="12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허정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虛靜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마음을 비우고 고요하게 하는 공부 강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20560" y="928800"/>
            <a:ext cx="83883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②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적 인간상：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인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聖人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998640" y="1652760"/>
          <a:ext cx="6823080" cy="2022480"/>
        </p:xfrm>
        <a:graphic>
          <a:graphicData uri="http://schemas.openxmlformats.org/drawingml/2006/table">
            <a:tbl>
              <a:tblPr/>
              <a:tblGrid>
                <a:gridCol w="1073160"/>
                <a:gridCol w="5749920"/>
              </a:tblGrid>
              <a:tr h="10119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유가의 성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덕을 실현하여 사람들의 모범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맹자는 “성인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인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(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人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의 지상이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라고 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1052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도가의 성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스스로를 드러내지 않는 사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자연의 질서를 따르는 사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바탕"/>
                          <a:ea typeface="맑은 고딕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7"/>
          <p:cNvSpPr/>
          <p:nvPr/>
        </p:nvSpPr>
        <p:spPr>
          <a:xfrm>
            <a:off x="530280" y="3859200"/>
            <a:ext cx="8388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상 사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성인의 무위의 다스림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[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無爲之治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]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이 이루어지는 사회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• </a:t>
            </a:r>
            <a:r>
              <a:rPr b="1" lang="en-US" sz="18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소국 과민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(</a:t>
            </a:r>
            <a:r>
              <a:rPr b="1" lang="ko-KR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小國寡民</a:t>
            </a:r>
            <a:r>
              <a:rPr b="1" lang="en-US" sz="26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)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：인위적이지 않은 작은 규모의</a:t>
            </a: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국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      </a:t>
            </a:r>
            <a:r>
              <a:rPr b="1" lang="ko-KR" sz="2600" spc="-1" strike="noStrike">
                <a:solidFill>
                  <a:srgbClr val="232323"/>
                </a:solidFill>
                <a:latin typeface="맑은 고딕"/>
                <a:ea typeface="맑은 고딕"/>
              </a:rPr>
              <a:t>가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06:35:17Z</dcterms:created>
  <dc:creator>(주)미래엔 교육 개발 1실</dc:creator>
  <dc:description/>
  <dc:language>en-US</dc:language>
  <cp:lastModifiedBy>Choco</cp:lastModifiedBy>
  <dcterms:modified xsi:type="dcterms:W3CDTF">2013-12-20T08:47:01Z</dcterms:modified>
  <cp:revision>852</cp:revision>
  <dc:subject/>
  <dc:title>PowerPoint 프레젠테이션</dc:title>
</cp:coreProperties>
</file>