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EF25-081B-4A9A-8FE7-11D900CACFF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16B6-2C1D-4B1A-985E-9095CBB78ABC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F999-B2D9-4C81-94E8-372AFCD026B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2EF8-A8DD-4975-B2DB-A2AD12E56D64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그림 1" descr="윤리와사상_ppt_탐구활동.png"/>
          <p:cNvPicPr/>
          <p:nvPr/>
        </p:nvPicPr>
        <p:blipFill>
          <a:blip r:embed="rId3"/>
          <a:stretch/>
        </p:blipFill>
        <p:spPr>
          <a:xfrm>
            <a:off x="0" y="0"/>
            <a:ext cx="1643040" cy="920880"/>
          </a:xfrm>
          <a:prstGeom prst="rect">
            <a:avLst/>
          </a:prstGeom>
          <a:ln w="0">
            <a:noFill/>
          </a:ln>
        </p:spPr>
      </p:pic>
      <p:sp>
        <p:nvSpPr>
          <p:cNvPr id="336" name="모서리가 둥근 직사각형 2"/>
          <p:cNvSpPr/>
          <p:nvPr/>
        </p:nvSpPr>
        <p:spPr>
          <a:xfrm>
            <a:off x="5815080" y="919080"/>
            <a:ext cx="1008000" cy="28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심화 학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모서리가 둥근 직사각형 3"/>
          <p:cNvSpPr/>
          <p:nvPr/>
        </p:nvSpPr>
        <p:spPr>
          <a:xfrm>
            <a:off x="6905520" y="923760"/>
            <a:ext cx="1008000" cy="281160"/>
          </a:xfrm>
          <a:prstGeom prst="roundRect">
            <a:avLst>
              <a:gd name="adj" fmla="val 50000"/>
            </a:avLst>
          </a:prstGeom>
          <a:solidFill>
            <a:srgbClr val="31859c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토의 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•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토론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모서리가 둥근 직사각형 4"/>
          <p:cNvSpPr/>
          <p:nvPr/>
        </p:nvSpPr>
        <p:spPr>
          <a:xfrm>
            <a:off x="8001000" y="928800"/>
            <a:ext cx="1008000" cy="285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창의 </a:t>
            </a:r>
            <a:r>
              <a:rPr b="1" lang="en-US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• </a:t>
            </a: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인성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그림 1" descr="윤리와사상_ppt_탐구활동.png"/>
          <p:cNvPicPr/>
          <p:nvPr/>
        </p:nvPicPr>
        <p:blipFill>
          <a:blip r:embed="rId3"/>
          <a:stretch/>
        </p:blipFill>
        <p:spPr>
          <a:xfrm>
            <a:off x="0" y="0"/>
            <a:ext cx="1643040" cy="920880"/>
          </a:xfrm>
          <a:prstGeom prst="rect">
            <a:avLst/>
          </a:prstGeom>
          <a:ln w="0">
            <a:noFill/>
          </a:ln>
        </p:spPr>
      </p:pic>
      <p:sp>
        <p:nvSpPr>
          <p:cNvPr id="376" name="모서리가 둥근 직사각형 2"/>
          <p:cNvSpPr/>
          <p:nvPr/>
        </p:nvSpPr>
        <p:spPr>
          <a:xfrm>
            <a:off x="5815080" y="919080"/>
            <a:ext cx="1008000" cy="28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심화 학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모서리가 둥근 직사각형 3"/>
          <p:cNvSpPr/>
          <p:nvPr/>
        </p:nvSpPr>
        <p:spPr>
          <a:xfrm>
            <a:off x="6905520" y="923760"/>
            <a:ext cx="1008000" cy="2811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토의 </a:t>
            </a:r>
            <a:r>
              <a:rPr b="1" lang="en-US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• </a:t>
            </a: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토론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모서리가 둥근 직사각형 4"/>
          <p:cNvSpPr/>
          <p:nvPr/>
        </p:nvSpPr>
        <p:spPr>
          <a:xfrm>
            <a:off x="8001000" y="928800"/>
            <a:ext cx="1008000" cy="285480"/>
          </a:xfrm>
          <a:prstGeom prst="roundRect">
            <a:avLst>
              <a:gd name="adj" fmla="val 50000"/>
            </a:avLst>
          </a:prstGeom>
          <a:solidFill>
            <a:srgbClr val="31859c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창의 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•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인성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그림 1" descr="윤리와사상_ppt_진단평가.png"/>
          <p:cNvPicPr/>
          <p:nvPr/>
        </p:nvPicPr>
        <p:blipFill>
          <a:blip r:embed="rId3"/>
          <a:stretch/>
        </p:blipFill>
        <p:spPr>
          <a:xfrm>
            <a:off x="0" y="0"/>
            <a:ext cx="1714680" cy="8254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그림 1" descr="윤리와사상_ppt_생각열기.png"/>
          <p:cNvPicPr/>
          <p:nvPr/>
        </p:nvPicPr>
        <p:blipFill>
          <a:blip r:embed="rId3"/>
          <a:stretch/>
        </p:blipFill>
        <p:spPr>
          <a:xfrm>
            <a:off x="0" y="100080"/>
            <a:ext cx="157176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그림 2" descr="윤리와사상_ppt_학습정리.png"/>
          <p:cNvPicPr/>
          <p:nvPr/>
        </p:nvPicPr>
        <p:blipFill>
          <a:blip r:embed="rId3"/>
          <a:stretch/>
        </p:blipFill>
        <p:spPr>
          <a:xfrm>
            <a:off x="71280" y="-71280"/>
            <a:ext cx="1643400" cy="92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그림 1" descr="윤리와사상_ppt_탐구활동.png"/>
          <p:cNvPicPr/>
          <p:nvPr/>
        </p:nvPicPr>
        <p:blipFill>
          <a:blip r:embed="rId3"/>
          <a:stretch/>
        </p:blipFill>
        <p:spPr>
          <a:xfrm>
            <a:off x="0" y="0"/>
            <a:ext cx="1643040" cy="92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그림 1" descr="윤리와사상_ppt_생각열기.png"/>
          <p:cNvPicPr/>
          <p:nvPr/>
        </p:nvPicPr>
        <p:blipFill>
          <a:blip r:embed="rId3"/>
          <a:stretch/>
        </p:blipFill>
        <p:spPr>
          <a:xfrm>
            <a:off x="0" y="100080"/>
            <a:ext cx="1571760" cy="7570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6286680" y="357120"/>
            <a:ext cx="2643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그림 1" descr="윤리와사상_ppt_생각열기.png"/>
          <p:cNvPicPr/>
          <p:nvPr/>
        </p:nvPicPr>
        <p:blipFill>
          <a:blip r:embed="rId3"/>
          <a:stretch/>
        </p:blipFill>
        <p:spPr>
          <a:xfrm>
            <a:off x="0" y="100080"/>
            <a:ext cx="1571760" cy="7570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6286680" y="357120"/>
            <a:ext cx="2643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그림 1" descr="윤리와사상_ppt_탐구활동.png"/>
          <p:cNvPicPr/>
          <p:nvPr/>
        </p:nvPicPr>
        <p:blipFill>
          <a:blip r:embed="rId3"/>
          <a:stretch/>
        </p:blipFill>
        <p:spPr>
          <a:xfrm>
            <a:off x="0" y="0"/>
            <a:ext cx="1643040" cy="920880"/>
          </a:xfrm>
          <a:prstGeom prst="rect">
            <a:avLst/>
          </a:prstGeom>
          <a:ln w="0">
            <a:noFill/>
          </a:ln>
        </p:spPr>
      </p:pic>
      <p:sp>
        <p:nvSpPr>
          <p:cNvPr id="296" name="모서리가 둥근 직사각형 2"/>
          <p:cNvSpPr/>
          <p:nvPr/>
        </p:nvSpPr>
        <p:spPr>
          <a:xfrm>
            <a:off x="5815080" y="919080"/>
            <a:ext cx="1008000" cy="285840"/>
          </a:xfrm>
          <a:prstGeom prst="roundRect">
            <a:avLst>
              <a:gd name="adj" fmla="val 50000"/>
            </a:avLst>
          </a:prstGeom>
          <a:solidFill>
            <a:srgbClr val="31859c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심화 학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모서리가 둥근 직사각형 3"/>
          <p:cNvSpPr/>
          <p:nvPr/>
        </p:nvSpPr>
        <p:spPr>
          <a:xfrm>
            <a:off x="6905520" y="923760"/>
            <a:ext cx="1008000" cy="2811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토론 </a:t>
            </a:r>
            <a:r>
              <a:rPr b="1" lang="en-US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•</a:t>
            </a: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토의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모서리가 둥근 직사각형 4"/>
          <p:cNvSpPr/>
          <p:nvPr/>
        </p:nvSpPr>
        <p:spPr>
          <a:xfrm>
            <a:off x="8001000" y="928800"/>
            <a:ext cx="1008000" cy="285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창의 </a:t>
            </a:r>
            <a:r>
              <a:rPr b="1" lang="en-US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• </a:t>
            </a: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인성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직사각형 3" descr=""/>
          <p:cNvPicPr/>
          <p:nvPr/>
        </p:nvPicPr>
        <p:blipFill>
          <a:blip r:embed="rId1"/>
          <a:stretch/>
        </p:blipFill>
        <p:spPr>
          <a:xfrm>
            <a:off x="2279520" y="3035160"/>
            <a:ext cx="6199200" cy="7621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31"/>
          <p:cNvSpPr/>
          <p:nvPr/>
        </p:nvSpPr>
        <p:spPr>
          <a:xfrm>
            <a:off x="2048040" y="3722760"/>
            <a:ext cx="6453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8. </a:t>
            </a:r>
            <a:r>
              <a:rPr b="1" lang="ko-KR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도가</a:t>
            </a:r>
            <a:r>
              <a:rPr b="1" lang="en-US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·</a:t>
            </a:r>
            <a:r>
              <a:rPr b="1" lang="ko-KR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도교 사상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연원과 전개</a:t>
            </a:r>
            <a:r>
              <a:rPr b="1" lang="en-US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직사각형 7"/>
          <p:cNvSpPr/>
          <p:nvPr/>
        </p:nvSpPr>
        <p:spPr>
          <a:xfrm>
            <a:off x="1000080" y="1214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다음 글을 읽고 물음에 답해 보자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9"/>
          <p:cNvSpPr/>
          <p:nvPr/>
        </p:nvSpPr>
        <p:spPr>
          <a:xfrm>
            <a:off x="2867040" y="21420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도가와 도교 사상이 현대 사회에 주는 의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타원 4"/>
          <p:cNvSpPr/>
          <p:nvPr/>
        </p:nvSpPr>
        <p:spPr>
          <a:xfrm>
            <a:off x="857160" y="1357200"/>
            <a:ext cx="142920" cy="142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그림 5" descr="2_8_1.png"/>
          <p:cNvPicPr/>
          <p:nvPr/>
        </p:nvPicPr>
        <p:blipFill>
          <a:blip r:embed="rId1"/>
          <a:stretch/>
        </p:blipFill>
        <p:spPr>
          <a:xfrm>
            <a:off x="603360" y="2071800"/>
            <a:ext cx="8397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직사각형 6"/>
          <p:cNvSpPr/>
          <p:nvPr/>
        </p:nvSpPr>
        <p:spPr>
          <a:xfrm>
            <a:off x="571680" y="121428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자료 ❶과 자료 ❷에 나타난 주장의 공통점은 무엇일까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모서리가 둥근 직사각형 21"/>
          <p:cNvSpPr/>
          <p:nvPr/>
        </p:nvSpPr>
        <p:spPr>
          <a:xfrm>
            <a:off x="714240" y="2286000"/>
            <a:ext cx="7929720" cy="3929040"/>
          </a:xfrm>
          <a:prstGeom prst="roundRect">
            <a:avLst>
              <a:gd name="adj" fmla="val 9880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직사각형 8"/>
          <p:cNvSpPr/>
          <p:nvPr/>
        </p:nvSpPr>
        <p:spPr>
          <a:xfrm>
            <a:off x="574560" y="1214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3" descr="C:\Documents and Settings\Administrator\My Documents\네이트온 받은 파일\마우스.png"/>
          <p:cNvPicPr/>
          <p:nvPr/>
        </p:nvPicPr>
        <p:blipFill>
          <a:blip r:embed="rId1"/>
          <a:stretch/>
        </p:blipFill>
        <p:spPr>
          <a:xfrm>
            <a:off x="3929040" y="31431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90" name="직사각형 6"/>
          <p:cNvSpPr/>
          <p:nvPr/>
        </p:nvSpPr>
        <p:spPr>
          <a:xfrm>
            <a:off x="785880" y="2579760"/>
            <a:ext cx="7786800" cy="1519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•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세상의 인위적인 가치 기준에 연연하지 않는다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•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물질을 중요하게 생각하지 않는다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•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정신적으로 자유로울 것을 강조한다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9"/>
          <p:cNvSpPr/>
          <p:nvPr/>
        </p:nvSpPr>
        <p:spPr>
          <a:xfrm>
            <a:off x="2867040" y="21420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도가와 도교 사상이 현대 사회에 주는 의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직사각형 6"/>
          <p:cNvSpPr/>
          <p:nvPr/>
        </p:nvSpPr>
        <p:spPr>
          <a:xfrm>
            <a:off x="428760" y="11606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1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의 공통점이 현대인의 윤리적 삶에 어떤 의미를 줄 수 있는지 토론해 보자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모서리가 둥근 직사각형 21"/>
          <p:cNvSpPr/>
          <p:nvPr/>
        </p:nvSpPr>
        <p:spPr>
          <a:xfrm>
            <a:off x="571680" y="2071800"/>
            <a:ext cx="8143560" cy="4572000"/>
          </a:xfrm>
          <a:prstGeom prst="roundRect">
            <a:avLst>
              <a:gd name="adj" fmla="val 9880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직사각형 8"/>
          <p:cNvSpPr/>
          <p:nvPr/>
        </p:nvSpPr>
        <p:spPr>
          <a:xfrm>
            <a:off x="519120" y="1154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C:\Documents and Settings\Administrator\My Documents\네이트온 받은 파일\마우스.png"/>
          <p:cNvPicPr/>
          <p:nvPr/>
        </p:nvPicPr>
        <p:blipFill>
          <a:blip r:embed="rId1"/>
          <a:stretch/>
        </p:blipFill>
        <p:spPr>
          <a:xfrm>
            <a:off x="3786120" y="30067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96" name="직사각형 6"/>
          <p:cNvSpPr/>
          <p:nvPr/>
        </p:nvSpPr>
        <p:spPr>
          <a:xfrm>
            <a:off x="757080" y="2200320"/>
            <a:ext cx="7786800" cy="2945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갑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: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사람들이 물질적인 것에 얽매이다 보면 삶의 진정한 의미를 잊기 쉬운데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, 1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을 통해 삶을 되돌아볼 수 있을 것 같다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을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: 1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의 사상이 중요한 의미를 함축하고 있지만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요즘처럼 경쟁이 치열한 시대에 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1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처럼 살면 뒤처질 수밖에 없다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병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: 1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처럼 마음을 비우고 물질적 욕심을 버린다면 우리의 일상생활에서 낭비를 줄일 수 있고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그렇다면 생태계 파괴 문제도 해결할 수 있을 것 같다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9"/>
          <p:cNvSpPr/>
          <p:nvPr/>
        </p:nvSpPr>
        <p:spPr>
          <a:xfrm>
            <a:off x="2867040" y="21420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도가와 도교 사상이 현대 사회에 주는 의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그룹 2" descr=""/>
          <p:cNvPicPr/>
          <p:nvPr/>
        </p:nvPicPr>
        <p:blipFill>
          <a:blip r:embed="rId1"/>
          <a:stretch/>
        </p:blipFill>
        <p:spPr>
          <a:xfrm>
            <a:off x="426960" y="12063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499" name="그룹 2" descr=""/>
          <p:cNvPicPr/>
          <p:nvPr/>
        </p:nvPicPr>
        <p:blipFill>
          <a:blip r:embed="rId2"/>
          <a:stretch/>
        </p:blipFill>
        <p:spPr>
          <a:xfrm>
            <a:off x="426960" y="230508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500" name="그룹 2" descr=""/>
          <p:cNvPicPr/>
          <p:nvPr/>
        </p:nvPicPr>
        <p:blipFill>
          <a:blip r:embed="rId3"/>
          <a:stretch/>
        </p:blipFill>
        <p:spPr>
          <a:xfrm>
            <a:off x="426960" y="337644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501" name="그룹 2" descr=""/>
          <p:cNvPicPr/>
          <p:nvPr/>
        </p:nvPicPr>
        <p:blipFill>
          <a:blip r:embed="rId4"/>
          <a:stretch/>
        </p:blipFill>
        <p:spPr>
          <a:xfrm>
            <a:off x="438120" y="4827600"/>
            <a:ext cx="457200" cy="414360"/>
          </a:xfrm>
          <a:prstGeom prst="rect">
            <a:avLst/>
          </a:prstGeom>
          <a:ln w="0">
            <a:noFill/>
          </a:ln>
        </p:spPr>
      </p:pic>
      <p:sp>
        <p:nvSpPr>
          <p:cNvPr id="502" name="TextBox 25"/>
          <p:cNvSpPr/>
          <p:nvPr/>
        </p:nvSpPr>
        <p:spPr>
          <a:xfrm>
            <a:off x="905040" y="1143000"/>
            <a:ext cx="74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는 불교의 윤회 사상의 영향을 받아 등장하였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</a:t>
            </a:r>
            <a:r>
              <a:rPr b="1" lang="en-US" sz="2800" spc="-1" strike="noStrike">
                <a:solidFill>
                  <a:srgbClr val="232323"/>
                </a:solidFill>
                <a:latin typeface="Arial"/>
              </a:rPr>
              <a:t>( O , X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6"/>
          <p:cNvSpPr/>
          <p:nvPr/>
        </p:nvSpPr>
        <p:spPr>
          <a:xfrm>
            <a:off x="905040" y="2205000"/>
            <a:ext cx="74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는 불로장생의 신선이 되는 것을 이상으로 하였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en-US" sz="2800" spc="-1" strike="noStrike">
                <a:solidFill>
                  <a:srgbClr val="232323"/>
                </a:solidFill>
                <a:latin typeface="Arial"/>
              </a:rPr>
              <a:t>( O , X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27"/>
          <p:cNvSpPr/>
          <p:nvPr/>
        </p:nvSpPr>
        <p:spPr>
          <a:xfrm>
            <a:off x="905040" y="3284640"/>
            <a:ext cx="74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청담 사상은 도가 사상이 종교적으로 발전한 것으로 내세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來世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의 복을 기원하였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Arial"/>
              </a:rPr>
              <a:t>( O , X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타원 28"/>
          <p:cNvSpPr/>
          <p:nvPr/>
        </p:nvSpPr>
        <p:spPr>
          <a:xfrm>
            <a:off x="7000920" y="2643120"/>
            <a:ext cx="588960" cy="58752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타원 29"/>
          <p:cNvSpPr/>
          <p:nvPr/>
        </p:nvSpPr>
        <p:spPr>
          <a:xfrm>
            <a:off x="7626240" y="1627200"/>
            <a:ext cx="588960" cy="58752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타원 30"/>
          <p:cNvSpPr/>
          <p:nvPr/>
        </p:nvSpPr>
        <p:spPr>
          <a:xfrm>
            <a:off x="7643880" y="4143240"/>
            <a:ext cx="588960" cy="58896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1"/>
          <p:cNvSpPr/>
          <p:nvPr/>
        </p:nvSpPr>
        <p:spPr>
          <a:xfrm>
            <a:off x="905040" y="4757760"/>
            <a:ext cx="745308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황로학파는 노자의 무위지치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無爲之治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를 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탕으로 한 제왕의 통치술을 제시하였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en-US" sz="2800" spc="-1" strike="noStrike">
                <a:solidFill>
                  <a:srgbClr val="232323"/>
                </a:solidFill>
                <a:latin typeface="Arial"/>
              </a:rPr>
              <a:t>( O , X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타원 32"/>
          <p:cNvSpPr/>
          <p:nvPr/>
        </p:nvSpPr>
        <p:spPr>
          <a:xfrm>
            <a:off x="7072200" y="5705640"/>
            <a:ext cx="588960" cy="58716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2" descr="C:\Documents and Settings\Administrator\My Documents\네이트온 받은 파일\클릭2.png"/>
          <p:cNvPicPr/>
          <p:nvPr/>
        </p:nvPicPr>
        <p:blipFill>
          <a:blip r:embed="rId5"/>
          <a:stretch/>
        </p:blipFill>
        <p:spPr>
          <a:xfrm>
            <a:off x="5867280" y="1733400"/>
            <a:ext cx="943200" cy="3384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2" descr="C:\Documents and Settings\Administrator\My Documents\네이트온 받은 파일\클릭2.png"/>
          <p:cNvPicPr/>
          <p:nvPr/>
        </p:nvPicPr>
        <p:blipFill>
          <a:blip r:embed="rId6"/>
          <a:stretch/>
        </p:blipFill>
        <p:spPr>
          <a:xfrm>
            <a:off x="5867280" y="2743200"/>
            <a:ext cx="943200" cy="3380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2" descr="C:\Documents and Settings\Administrator\My Documents\네이트온 받은 파일\클릭2.png"/>
          <p:cNvPicPr/>
          <p:nvPr/>
        </p:nvPicPr>
        <p:blipFill>
          <a:blip r:embed="rId7"/>
          <a:stretch/>
        </p:blipFill>
        <p:spPr>
          <a:xfrm>
            <a:off x="5867280" y="4257720"/>
            <a:ext cx="943200" cy="3380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2" descr="C:\Documents and Settings\Administrator\My Documents\네이트온 받은 파일\클릭2.png"/>
          <p:cNvPicPr/>
          <p:nvPr/>
        </p:nvPicPr>
        <p:blipFill>
          <a:blip r:embed="rId8"/>
          <a:stretch/>
        </p:blipFill>
        <p:spPr>
          <a:xfrm>
            <a:off x="5867280" y="5815080"/>
            <a:ext cx="94320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그룹 2" descr=""/>
          <p:cNvPicPr/>
          <p:nvPr/>
        </p:nvPicPr>
        <p:blipFill>
          <a:blip r:embed="rId1"/>
          <a:stretch/>
        </p:blipFill>
        <p:spPr>
          <a:xfrm>
            <a:off x="378000" y="1243080"/>
            <a:ext cx="457200" cy="42048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3"/>
          <p:cNvSpPr/>
          <p:nvPr/>
        </p:nvSpPr>
        <p:spPr>
          <a:xfrm>
            <a:off x="857160" y="116352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다음을 통해 알 수 있는 도교의 특징으로 옳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것은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타원 14"/>
          <p:cNvSpPr/>
          <p:nvPr/>
        </p:nvSpPr>
        <p:spPr>
          <a:xfrm>
            <a:off x="781200" y="3946680"/>
            <a:ext cx="588960" cy="58716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직사각형 16"/>
          <p:cNvSpPr/>
          <p:nvPr/>
        </p:nvSpPr>
        <p:spPr>
          <a:xfrm>
            <a:off x="880920" y="2205000"/>
            <a:ext cx="7786800" cy="1224000"/>
          </a:xfrm>
          <a:prstGeom prst="rect">
            <a:avLst/>
          </a:prstGeom>
          <a:solidFill>
            <a:srgbClr val="d9d9d9"/>
          </a:solidFill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• </a:t>
            </a:r>
            <a:r>
              <a:rPr b="1" lang="en-US" sz="11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빈민 구제를 위한 시설을 마련하였다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•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덕적 선행을 하면 병이 낫고 신선이 될 수 있다고 주장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하였다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직사각형 17"/>
          <p:cNvSpPr/>
          <p:nvPr/>
        </p:nvSpPr>
        <p:spPr>
          <a:xfrm>
            <a:off x="809640" y="3429000"/>
            <a:ext cx="8143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①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초현실적이고 형이상학적인 사상이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②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권선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勸善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사상을 바탕으로 하고 있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③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유교나 불교 사상에 배타적인 입장이었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④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현세보다 내세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來世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의 구원을 더 중요하게 여겼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2" descr="C:\Documents and Settings\Administrator\My Documents\네이트온 받은 파일\클릭2.png"/>
          <p:cNvPicPr/>
          <p:nvPr/>
        </p:nvPicPr>
        <p:blipFill>
          <a:blip r:embed="rId2"/>
          <a:stretch/>
        </p:blipFill>
        <p:spPr>
          <a:xfrm>
            <a:off x="1857240" y="1714680"/>
            <a:ext cx="94320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직사각형 3"/>
          <p:cNvSpPr/>
          <p:nvPr/>
        </p:nvSpPr>
        <p:spPr>
          <a:xfrm>
            <a:off x="1857240" y="2287440"/>
            <a:ext cx="5715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의 사상적 연원을 설명할 수 있다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그림 2" descr=""/>
          <p:cNvPicPr/>
          <p:nvPr/>
        </p:nvPicPr>
        <p:blipFill>
          <a:blip r:embed="rId1"/>
          <a:stretch/>
        </p:blipFill>
        <p:spPr>
          <a:xfrm>
            <a:off x="1719360" y="3220920"/>
            <a:ext cx="150840" cy="142920"/>
          </a:xfrm>
          <a:prstGeom prst="rect">
            <a:avLst/>
          </a:prstGeom>
          <a:ln w="0">
            <a:noFill/>
          </a:ln>
        </p:spPr>
      </p:pic>
      <p:pic>
        <p:nvPicPr>
          <p:cNvPr id="465" name="그림 2" descr=""/>
          <p:cNvPicPr/>
          <p:nvPr/>
        </p:nvPicPr>
        <p:blipFill>
          <a:blip r:embed="rId2"/>
          <a:stretch/>
        </p:blipFill>
        <p:spPr>
          <a:xfrm>
            <a:off x="1709640" y="4016520"/>
            <a:ext cx="150840" cy="142560"/>
          </a:xfrm>
          <a:prstGeom prst="rect">
            <a:avLst/>
          </a:prstGeom>
          <a:ln w="0">
            <a:noFill/>
          </a:ln>
        </p:spPr>
      </p:pic>
      <p:pic>
        <p:nvPicPr>
          <p:cNvPr id="466" name="그림 2" descr=""/>
          <p:cNvPicPr/>
          <p:nvPr/>
        </p:nvPicPr>
        <p:blipFill>
          <a:blip r:embed="rId3"/>
          <a:stretch/>
        </p:blipFill>
        <p:spPr>
          <a:xfrm>
            <a:off x="1685880" y="2435400"/>
            <a:ext cx="150840" cy="142560"/>
          </a:xfrm>
          <a:prstGeom prst="rect">
            <a:avLst/>
          </a:prstGeom>
          <a:ln w="0">
            <a:noFill/>
          </a:ln>
        </p:spPr>
      </p:pic>
      <p:sp>
        <p:nvSpPr>
          <p:cNvPr id="467" name="직사각형 6"/>
          <p:cNvSpPr/>
          <p:nvPr/>
        </p:nvSpPr>
        <p:spPr>
          <a:xfrm>
            <a:off x="1857240" y="3092400"/>
            <a:ext cx="5715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 사상의 전개 과정을 이해할 수 있다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7"/>
          <p:cNvSpPr/>
          <p:nvPr/>
        </p:nvSpPr>
        <p:spPr>
          <a:xfrm>
            <a:off x="1857240" y="3854520"/>
            <a:ext cx="5715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가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 사상이 당시 사회에 끼친 영향을 이해할 수 있다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1"/>
          <p:cNvSpPr/>
          <p:nvPr/>
        </p:nvSpPr>
        <p:spPr>
          <a:xfrm>
            <a:off x="357120" y="974880"/>
            <a:ext cx="7985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1. 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도교 사상의 연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507960" y="1500120"/>
            <a:ext cx="8388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1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‘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교’라는 명칭에 영향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</a:t>
            </a: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노자는 도교의 교주：“노자는 도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道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다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”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라고 하여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노자를 교주로 삼음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2)</a:t>
            </a:r>
            <a:r>
              <a:rPr b="1" lang="en-US" sz="14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무속 신앙：제사와 같은 도교의 의식 행사에 영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14440" y="906480"/>
            <a:ext cx="8388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3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신선 사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</a:t>
            </a:r>
            <a:r>
              <a:rPr b="1" lang="ko-KR" sz="24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불로장생설：영원히 늙지 않고 살 수 있을 것이라는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사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981000" y="2635200"/>
          <a:ext cx="7091280" cy="1585800"/>
        </p:xfrm>
        <a:graphic>
          <a:graphicData uri="http://schemas.openxmlformats.org/drawingml/2006/table">
            <a:tbl>
              <a:tblPr/>
              <a:tblGrid>
                <a:gridCol w="7091280"/>
              </a:tblGrid>
              <a:tr h="1585800">
                <a:tc>
                  <a:txBody>
                    <a:bodyPr lIns="64800" rIns="64800" tIns="18000" bIns="18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불로장생하는 방법：내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(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內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)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외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(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外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내단법：내면의 기를 조절하거나 통제하는 방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외단법：외부의 물질을 섭취하여 수명을 연장시키는 방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d3e6fd"/>
                    </a:solidFill>
                  </a:tcPr>
                </a:tc>
              </a:tr>
            </a:tbl>
          </a:graphicData>
        </a:graphic>
      </p:graphicFrame>
      <p:sp>
        <p:nvSpPr>
          <p:cNvPr id="473" name="Rectangle 7"/>
          <p:cNvSpPr/>
          <p:nvPr/>
        </p:nvSpPr>
        <p:spPr>
          <a:xfrm>
            <a:off x="530280" y="4437000"/>
            <a:ext cx="83883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방사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方士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불로장생할 수 있는 방법을 연구하는 사람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1"/>
          <p:cNvSpPr/>
          <p:nvPr/>
        </p:nvSpPr>
        <p:spPr>
          <a:xfrm>
            <a:off x="372960" y="922320"/>
            <a:ext cx="7985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2. 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도교 사상의 전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504720" y="1503360"/>
            <a:ext cx="83883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1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황로학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한나라 초기에 등장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</a:t>
            </a:r>
            <a:r>
              <a:rPr b="1" lang="ko-KR" sz="1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황제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黃帝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와 노자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老子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를 숭상한다고 해서 황로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黃老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1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학파라고 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③</a:t>
            </a:r>
            <a:r>
              <a:rPr b="1" lang="ko-KR" sz="14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1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사상：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도가 사상을 기반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으로 유가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묵가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법가 등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다른 학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 </a:t>
            </a: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파들의 장점을 받아들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④</a:t>
            </a: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무위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無爲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로 백성을 다스리는 제왕의 통치술 제시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514440" y="909720"/>
            <a:ext cx="83883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2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태평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한나라 말기에 장각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張角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 창시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의미：지극히 크고 공평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사상：황로학파와 민간 신앙을 바탕으로 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④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특징：천하태평의 이상 사회를 실현시키려는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사회 참여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적 성격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3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오두미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한나라 말기에 장릉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張陵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 창시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입교할 때 쌀 다섯 말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[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五斗米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]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을 내도록 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특징：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일상생활에서 선행을 할 것을 강조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→ 여행자를 위한 무료 시설이나 빈민 구제 시설 설치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14440" y="919080"/>
            <a:ext cx="8388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4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청담 사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위진 시대에 현학자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玄學者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등장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도가 사상을 철학적으로 계승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특징：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속세를 초월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하여 형이상학적이고 예술적인 논변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을 즐겼으며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정신적 자유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를 추구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④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대표 사상가：죽림칠현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竹林七賢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1"/>
          <p:cNvSpPr/>
          <p:nvPr/>
        </p:nvSpPr>
        <p:spPr>
          <a:xfrm>
            <a:off x="428760" y="895320"/>
            <a:ext cx="848520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3. 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도가와 도교의 비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611280" y="1773360"/>
          <a:ext cx="8175600" cy="4319640"/>
        </p:xfrm>
        <a:graphic>
          <a:graphicData uri="http://schemas.openxmlformats.org/drawingml/2006/table">
            <a:tbl>
              <a:tblPr/>
              <a:tblGrid>
                <a:gridCol w="1290600"/>
                <a:gridCol w="3443400"/>
                <a:gridCol w="3441600"/>
              </a:tblGrid>
              <a:tr h="493560">
                <a:tc>
                  <a:txBody>
                    <a:bodyPr lIns="64800" rIns="64800" tIns="18000" bIns="18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d3e6fd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도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d3e6fd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도교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d3e6fd"/>
                    </a:solidFill>
                  </a:tcPr>
                </a:tc>
              </a:tr>
              <a:tr h="133776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사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d3e6fd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노장 사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유가에 비판적 입장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cfbf9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도가 사상에 민간신앙 결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유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·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불교에 개방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cfbf9"/>
                    </a:solidFill>
                  </a:tcPr>
                </a:tc>
              </a:tr>
              <a:tr h="153828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특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d3e6fd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무위자연의 삶 추구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세속적인 삶에 대해 초월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cfbf9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불로장생의 신선 추구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현세구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(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現世求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의 입장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cfbf9"/>
                    </a:solidFill>
                  </a:tcPr>
                </a:tc>
              </a:tr>
              <a:tr h="95076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공통점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d3e6fd"/>
                    </a:solidFill>
                  </a:tcPr>
                </a:tc>
                <a:tc gridSpan="2">
                  <a:txBody>
                    <a:bodyPr lIns="64800" rIns="64800" tIns="18000" bIns="18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물질적인 가치보다 정신적 자유의 경지를 더 중요하게 생각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자연의 질서에 따를 것을 강조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cf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1"/>
          <p:cNvSpPr/>
          <p:nvPr/>
        </p:nvSpPr>
        <p:spPr>
          <a:xfrm>
            <a:off x="434880" y="903240"/>
            <a:ext cx="848520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4. 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도가</a:t>
            </a: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·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도교 사상의 의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569880" y="1428840"/>
            <a:ext cx="8388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1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사회 문제 해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</a:t>
            </a: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정치적으로 혼란한 시기에 등장 → 사회 문제 해결을 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14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한 새로운 관점 제시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</a:t>
            </a:r>
            <a:r>
              <a:rPr b="1" lang="ko-KR" sz="24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통치 세력 비판 → 새로운 이상 사회 제시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2)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정신적 삶에 영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</a:t>
            </a:r>
            <a:r>
              <a:rPr b="1" lang="ko-KR" sz="24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정신적 자유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종교적 구원 → 마음을 편안하게 해 줌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</a:t>
            </a:r>
            <a:r>
              <a:rPr b="1" lang="ko-KR" sz="1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세속적 가치에 얽매이지 않는 태도 → 나눔의 윤리로 이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어짐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6:35:17Z</dcterms:created>
  <dc:creator>(주)미래엔 교육 개발 1실</dc:creator>
  <dc:description/>
  <dc:language>en-US</dc:language>
  <cp:lastModifiedBy>Choco</cp:lastModifiedBy>
  <dcterms:modified xsi:type="dcterms:W3CDTF">2013-12-20T08:47:55Z</dcterms:modified>
  <cp:revision>851</cp:revision>
  <dc:subject/>
  <dc:title>PowerPoint 프레젠테이션</dc:title>
</cp:coreProperties>
</file>